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D804-7617-43F8-A510-E155B84C1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1262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6EA5-D4A8-406E-81E2-F498631B2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7920" y="762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1262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7920" y="31262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4E7D-CB28-4D35-ADEE-15E84491E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3320" y="762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5760" y="762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1262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3320" y="31262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5760" y="31262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A747-FF9A-4F91-BDBA-C78D3ACD4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846D5-EF7B-4048-888E-086F3ED98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05F1A-D30B-4FDA-9796-76E174B9A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EB1C4-F35F-4CE6-8F27-BECF9A6BD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7920" y="7621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E2D22-A6A1-47A8-B2A3-36E67E974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88432-638A-4BAC-A2AF-B6C923443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0E3FF-F77C-4F9C-9DAA-57082A984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7920" y="7621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1262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3A823-EBEE-4E28-B521-DBF790B6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1885-5973-42CB-A013-78FDFDF31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7920" y="762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97920" y="31262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977C1-FAD0-499E-B73D-E6BA44E1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7920" y="762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1262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EB55A-9037-4483-98DA-F68FBBE4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1262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DCA37-9B5B-4C17-9A49-F737B9F80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7920" y="762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1262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97920" y="31262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61B9F-4079-46DF-BAB1-337BC07B5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3320" y="762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5760" y="762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1262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3320" y="31262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5760" y="31262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78559-2204-4CD8-BEE5-EB6985C35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FC3C-B406-430B-B181-49FCAFD32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7920" y="7621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C4EC-64B2-4385-BF5A-CAA0B23DE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77AD-8697-45EF-943E-056BEF1F6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7D18-FF3C-469F-A983-E1532E502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7920" y="7621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1262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4A8E-FCD7-4745-B207-74F14C98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7920" y="762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7920" y="31262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0A33-DE43-4741-AF0B-A5B74C48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7920" y="762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1262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D3E0-8197-437F-9023-6A480A6F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a5002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25D75-7F50-463E-B3BA-57E79F155B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88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a5002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6F072-6043-4C3A-B0B0-E11A507351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349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>
                <a:solidFill>
                  <a:srgbClr val="a50021"/>
                </a:solidFill>
                <a:latin typeface="Arial"/>
              </a:rPr>
              <a:t>Investīciju piesaistes pasākumi uzņēmējdarbības veicināšanai </a:t>
            </a:r>
            <a:br>
              <a:rPr sz="3200"/>
            </a:br>
            <a:br>
              <a:rPr sz="3200"/>
            </a:br>
            <a:r>
              <a:rPr b="1" i="1" lang="lv-LV" sz="2400" spc="-1" strike="noStrike">
                <a:solidFill>
                  <a:srgbClr val="a50021"/>
                </a:solidFill>
                <a:latin typeface="Arial"/>
              </a:rPr>
              <a:t>Pieredze ar Norvēģijas investoriem</a:t>
            </a:r>
            <a:endParaRPr b="1" lang="en-US" sz="2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14400" y="5486040"/>
            <a:ext cx="51055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atis Gint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AA </a:t>
            </a:r>
            <a:r>
              <a:rPr b="1" lang="lv-LV" sz="1800" spc="-1" strike="noStrike">
                <a:solidFill>
                  <a:srgbClr val="ffffff"/>
                </a:solidFill>
                <a:latin typeface="Arial"/>
              </a:rPr>
              <a:t>pārstāvniecības vadītājs Norvēģij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324000" y="189000"/>
            <a:ext cx="8742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a50021"/>
                </a:solidFill>
                <a:latin typeface="Arial"/>
              </a:rPr>
              <a:t>Norvēģijas tiešās investīcijas Latvij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7"/>
          <p:cNvGrpSpPr/>
          <p:nvPr/>
        </p:nvGrpSpPr>
        <p:grpSpPr>
          <a:xfrm>
            <a:off x="196920" y="754200"/>
            <a:ext cx="8610480" cy="5646600"/>
            <a:chOff x="196920" y="754200"/>
            <a:chExt cx="8610480" cy="5646600"/>
          </a:xfrm>
        </p:grpSpPr>
        <p:sp>
          <p:nvSpPr>
            <p:cNvPr id="86" name="object 3"/>
            <p:cNvSpPr/>
            <p:nvPr/>
          </p:nvSpPr>
          <p:spPr>
            <a:xfrm>
              <a:off x="2633040" y="4275360"/>
              <a:ext cx="236880" cy="531720"/>
            </a:xfrm>
            <a:custGeom>
              <a:avLst/>
              <a:gdLst/>
              <a:ahLst/>
              <a:rect l="l" t="t" r="r" b="b"/>
              <a:pathLst>
                <a:path w="236912" h="532014">
                  <a:moveTo>
                    <a:pt x="236912" y="0"/>
                  </a:moveTo>
                  <a:lnTo>
                    <a:pt x="0" y="0"/>
                  </a:lnTo>
                  <a:lnTo>
                    <a:pt x="0" y="532014"/>
                  </a:lnTo>
                  <a:lnTo>
                    <a:pt x="236912" y="532014"/>
                  </a:lnTo>
                  <a:lnTo>
                    <a:pt x="236912" y="0"/>
                  </a:lnTo>
                  <a:close/>
                </a:path>
              </a:pathLst>
            </a:custGeom>
            <a:solidFill>
              <a:srgbClr val="275d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bject 4"/>
            <p:cNvSpPr/>
            <p:nvPr/>
          </p:nvSpPr>
          <p:spPr>
            <a:xfrm>
              <a:off x="3106800" y="4030200"/>
              <a:ext cx="232560" cy="777240"/>
            </a:xfrm>
            <a:custGeom>
              <a:avLst/>
              <a:gdLst/>
              <a:ahLst/>
              <a:rect l="l" t="t" r="r" b="b"/>
              <a:pathLst>
                <a:path w="232756" h="777239">
                  <a:moveTo>
                    <a:pt x="232756" y="0"/>
                  </a:moveTo>
                  <a:lnTo>
                    <a:pt x="0" y="0"/>
                  </a:lnTo>
                  <a:lnTo>
                    <a:pt x="0" y="777239"/>
                  </a:lnTo>
                  <a:lnTo>
                    <a:pt x="232756" y="777239"/>
                  </a:lnTo>
                  <a:lnTo>
                    <a:pt x="232756" y="0"/>
                  </a:lnTo>
                  <a:close/>
                </a:path>
              </a:pathLst>
            </a:custGeom>
            <a:solidFill>
              <a:srgbClr val="275d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bject 5"/>
            <p:cNvSpPr/>
            <p:nvPr/>
          </p:nvSpPr>
          <p:spPr>
            <a:xfrm>
              <a:off x="3576600" y="3980160"/>
              <a:ext cx="236880" cy="826920"/>
            </a:xfrm>
            <a:custGeom>
              <a:avLst/>
              <a:gdLst/>
              <a:ahLst/>
              <a:rect l="l" t="t" r="r" b="b"/>
              <a:pathLst>
                <a:path w="236912" h="827115">
                  <a:moveTo>
                    <a:pt x="236912" y="0"/>
                  </a:moveTo>
                  <a:lnTo>
                    <a:pt x="0" y="0"/>
                  </a:lnTo>
                  <a:lnTo>
                    <a:pt x="0" y="827115"/>
                  </a:lnTo>
                  <a:lnTo>
                    <a:pt x="236912" y="827115"/>
                  </a:lnTo>
                  <a:lnTo>
                    <a:pt x="236912" y="0"/>
                  </a:lnTo>
                  <a:close/>
                </a:path>
              </a:pathLst>
            </a:custGeom>
            <a:solidFill>
              <a:srgbClr val="275d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bject 6"/>
            <p:cNvSpPr/>
            <p:nvPr/>
          </p:nvSpPr>
          <p:spPr>
            <a:xfrm>
              <a:off x="4050360" y="3992760"/>
              <a:ext cx="232560" cy="814680"/>
            </a:xfrm>
            <a:custGeom>
              <a:avLst/>
              <a:gdLst/>
              <a:ahLst/>
              <a:rect l="l" t="t" r="r" b="b"/>
              <a:pathLst>
                <a:path w="232755" h="814646">
                  <a:moveTo>
                    <a:pt x="232755" y="0"/>
                  </a:moveTo>
                  <a:lnTo>
                    <a:pt x="0" y="0"/>
                  </a:lnTo>
                  <a:lnTo>
                    <a:pt x="0" y="814646"/>
                  </a:lnTo>
                  <a:lnTo>
                    <a:pt x="232755" y="814646"/>
                  </a:lnTo>
                  <a:lnTo>
                    <a:pt x="232755" y="0"/>
                  </a:lnTo>
                  <a:close/>
                </a:path>
              </a:pathLst>
            </a:custGeom>
            <a:solidFill>
              <a:srgbClr val="275d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bject 7"/>
            <p:cNvSpPr/>
            <p:nvPr/>
          </p:nvSpPr>
          <p:spPr>
            <a:xfrm>
              <a:off x="4519800" y="3988440"/>
              <a:ext cx="236880" cy="818640"/>
            </a:xfrm>
            <a:custGeom>
              <a:avLst/>
              <a:gdLst/>
              <a:ahLst/>
              <a:rect l="l" t="t" r="r" b="b"/>
              <a:pathLst>
                <a:path w="236913" h="818804">
                  <a:moveTo>
                    <a:pt x="236913" y="0"/>
                  </a:moveTo>
                  <a:lnTo>
                    <a:pt x="0" y="0"/>
                  </a:lnTo>
                  <a:lnTo>
                    <a:pt x="0" y="818804"/>
                  </a:lnTo>
                  <a:lnTo>
                    <a:pt x="236913" y="818804"/>
                  </a:lnTo>
                  <a:lnTo>
                    <a:pt x="236913" y="0"/>
                  </a:lnTo>
                  <a:close/>
                </a:path>
              </a:pathLst>
            </a:custGeom>
            <a:solidFill>
              <a:srgbClr val="275d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bject 8"/>
            <p:cNvSpPr/>
            <p:nvPr/>
          </p:nvSpPr>
          <p:spPr>
            <a:xfrm>
              <a:off x="4993920" y="4208760"/>
              <a:ext cx="232560" cy="598320"/>
            </a:xfrm>
            <a:custGeom>
              <a:avLst/>
              <a:gdLst/>
              <a:ahLst/>
              <a:rect l="l" t="t" r="r" b="b"/>
              <a:pathLst>
                <a:path w="232756" h="598515">
                  <a:moveTo>
                    <a:pt x="232756" y="0"/>
                  </a:moveTo>
                  <a:lnTo>
                    <a:pt x="0" y="0"/>
                  </a:lnTo>
                  <a:lnTo>
                    <a:pt x="0" y="598515"/>
                  </a:lnTo>
                  <a:lnTo>
                    <a:pt x="232756" y="598515"/>
                  </a:lnTo>
                  <a:lnTo>
                    <a:pt x="232756" y="0"/>
                  </a:lnTo>
                  <a:close/>
                </a:path>
              </a:pathLst>
            </a:custGeom>
            <a:solidFill>
              <a:srgbClr val="275d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bject 9"/>
            <p:cNvSpPr/>
            <p:nvPr/>
          </p:nvSpPr>
          <p:spPr>
            <a:xfrm>
              <a:off x="5463360" y="3655800"/>
              <a:ext cx="236880" cy="1151280"/>
            </a:xfrm>
            <a:custGeom>
              <a:avLst/>
              <a:gdLst/>
              <a:ahLst/>
              <a:rect l="l" t="t" r="r" b="b"/>
              <a:pathLst>
                <a:path w="236912" h="1151313">
                  <a:moveTo>
                    <a:pt x="236912" y="0"/>
                  </a:moveTo>
                  <a:lnTo>
                    <a:pt x="0" y="0"/>
                  </a:lnTo>
                  <a:lnTo>
                    <a:pt x="0" y="1151313"/>
                  </a:lnTo>
                  <a:lnTo>
                    <a:pt x="236912" y="1151313"/>
                  </a:lnTo>
                  <a:lnTo>
                    <a:pt x="236912" y="0"/>
                  </a:lnTo>
                  <a:close/>
                </a:path>
              </a:pathLst>
            </a:custGeom>
            <a:solidFill>
              <a:srgbClr val="275d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bject 10"/>
            <p:cNvSpPr/>
            <p:nvPr/>
          </p:nvSpPr>
          <p:spPr>
            <a:xfrm>
              <a:off x="5937120" y="3389760"/>
              <a:ext cx="232560" cy="1417320"/>
            </a:xfrm>
            <a:custGeom>
              <a:avLst/>
              <a:gdLst/>
              <a:ahLst/>
              <a:rect l="l" t="t" r="r" b="b"/>
              <a:pathLst>
                <a:path w="232756" h="1417320">
                  <a:moveTo>
                    <a:pt x="232756" y="0"/>
                  </a:moveTo>
                  <a:lnTo>
                    <a:pt x="0" y="0"/>
                  </a:lnTo>
                  <a:lnTo>
                    <a:pt x="0" y="1417320"/>
                  </a:lnTo>
                  <a:lnTo>
                    <a:pt x="232756" y="1417320"/>
                  </a:lnTo>
                  <a:lnTo>
                    <a:pt x="232756" y="0"/>
                  </a:lnTo>
                  <a:close/>
                </a:path>
              </a:pathLst>
            </a:custGeom>
            <a:solidFill>
              <a:srgbClr val="275d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bject 11"/>
            <p:cNvSpPr/>
            <p:nvPr/>
          </p:nvSpPr>
          <p:spPr>
            <a:xfrm>
              <a:off x="6406920" y="3510360"/>
              <a:ext cx="236880" cy="1296720"/>
            </a:xfrm>
            <a:custGeom>
              <a:avLst/>
              <a:gdLst/>
              <a:ahLst/>
              <a:rect l="l" t="t" r="r" b="b"/>
              <a:pathLst>
                <a:path w="236913" h="1296784">
                  <a:moveTo>
                    <a:pt x="236913" y="0"/>
                  </a:moveTo>
                  <a:lnTo>
                    <a:pt x="0" y="0"/>
                  </a:lnTo>
                  <a:lnTo>
                    <a:pt x="0" y="1296784"/>
                  </a:lnTo>
                  <a:lnTo>
                    <a:pt x="236913" y="1296784"/>
                  </a:lnTo>
                  <a:lnTo>
                    <a:pt x="236913" y="0"/>
                  </a:lnTo>
                  <a:close/>
                </a:path>
              </a:pathLst>
            </a:custGeom>
            <a:solidFill>
              <a:srgbClr val="275d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bject 12"/>
            <p:cNvSpPr/>
            <p:nvPr/>
          </p:nvSpPr>
          <p:spPr>
            <a:xfrm>
              <a:off x="6880680" y="3526920"/>
              <a:ext cx="232560" cy="1280160"/>
            </a:xfrm>
            <a:custGeom>
              <a:avLst/>
              <a:gdLst/>
              <a:ahLst/>
              <a:rect l="l" t="t" r="r" b="b"/>
              <a:pathLst>
                <a:path w="232756" h="1280160">
                  <a:moveTo>
                    <a:pt x="232756" y="0"/>
                  </a:moveTo>
                  <a:lnTo>
                    <a:pt x="0" y="0"/>
                  </a:lnTo>
                  <a:lnTo>
                    <a:pt x="0" y="1280159"/>
                  </a:lnTo>
                  <a:lnTo>
                    <a:pt x="232756" y="1280159"/>
                  </a:lnTo>
                  <a:lnTo>
                    <a:pt x="232756" y="0"/>
                  </a:lnTo>
                  <a:close/>
                </a:path>
              </a:pathLst>
            </a:custGeom>
            <a:solidFill>
              <a:srgbClr val="275d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bject 13"/>
            <p:cNvSpPr/>
            <p:nvPr/>
          </p:nvSpPr>
          <p:spPr>
            <a:xfrm>
              <a:off x="7343280" y="3504240"/>
              <a:ext cx="236880" cy="1325880"/>
            </a:xfrm>
            <a:custGeom>
              <a:avLst/>
              <a:gdLst/>
              <a:ahLst/>
              <a:rect l="l" t="t" r="r" b="b"/>
              <a:pathLst>
                <a:path w="236912" h="1325879">
                  <a:moveTo>
                    <a:pt x="236912" y="0"/>
                  </a:moveTo>
                  <a:lnTo>
                    <a:pt x="0" y="0"/>
                  </a:lnTo>
                  <a:lnTo>
                    <a:pt x="0" y="1325880"/>
                  </a:lnTo>
                  <a:lnTo>
                    <a:pt x="236912" y="1325880"/>
                  </a:lnTo>
                  <a:lnTo>
                    <a:pt x="236912" y="0"/>
                  </a:lnTo>
                  <a:close/>
                </a:path>
              </a:pathLst>
            </a:custGeom>
            <a:solidFill>
              <a:srgbClr val="275d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bject 14"/>
            <p:cNvSpPr/>
            <p:nvPr/>
          </p:nvSpPr>
          <p:spPr>
            <a:xfrm>
              <a:off x="7824240" y="2147040"/>
              <a:ext cx="232560" cy="2660040"/>
            </a:xfrm>
            <a:custGeom>
              <a:avLst/>
              <a:gdLst/>
              <a:ahLst/>
              <a:rect l="l" t="t" r="r" b="b"/>
              <a:pathLst>
                <a:path w="232755" h="2660073">
                  <a:moveTo>
                    <a:pt x="232755" y="0"/>
                  </a:moveTo>
                  <a:lnTo>
                    <a:pt x="0" y="0"/>
                  </a:lnTo>
                  <a:lnTo>
                    <a:pt x="0" y="2660073"/>
                  </a:lnTo>
                  <a:lnTo>
                    <a:pt x="232755" y="2660073"/>
                  </a:lnTo>
                  <a:lnTo>
                    <a:pt x="232755" y="0"/>
                  </a:lnTo>
                  <a:close/>
                </a:path>
              </a:pathLst>
            </a:custGeom>
            <a:solidFill>
              <a:srgbClr val="275d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bject 15"/>
            <p:cNvSpPr/>
            <p:nvPr/>
          </p:nvSpPr>
          <p:spPr>
            <a:xfrm>
              <a:off x="8294040" y="1893600"/>
              <a:ext cx="236880" cy="2913840"/>
            </a:xfrm>
            <a:custGeom>
              <a:avLst/>
              <a:gdLst/>
              <a:ahLst/>
              <a:rect l="l" t="t" r="r" b="b"/>
              <a:pathLst>
                <a:path w="236913" h="2913611">
                  <a:moveTo>
                    <a:pt x="236913" y="0"/>
                  </a:moveTo>
                  <a:lnTo>
                    <a:pt x="0" y="0"/>
                  </a:lnTo>
                  <a:lnTo>
                    <a:pt x="0" y="2913611"/>
                  </a:lnTo>
                  <a:lnTo>
                    <a:pt x="236913" y="2913611"/>
                  </a:lnTo>
                  <a:lnTo>
                    <a:pt x="236913" y="0"/>
                  </a:lnTo>
                  <a:close/>
                </a:path>
              </a:pathLst>
            </a:custGeom>
            <a:solidFill>
              <a:srgbClr val="275d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bject 16"/>
            <p:cNvSpPr/>
            <p:nvPr/>
          </p:nvSpPr>
          <p:spPr>
            <a:xfrm>
              <a:off x="2515320" y="4807800"/>
              <a:ext cx="6132960" cy="360"/>
            </a:xfrm>
            <a:custGeom>
              <a:avLst/>
              <a:gdLst/>
              <a:ahLst/>
              <a:rect l="l" t="t" r="r" b="b"/>
              <a:pathLst>
                <a:path w="6133076" h="0">
                  <a:moveTo>
                    <a:pt x="0" y="0"/>
                  </a:moveTo>
                  <a:lnTo>
                    <a:pt x="6133076" y="0"/>
                  </a:lnTo>
                </a:path>
              </a:pathLst>
            </a:custGeom>
            <a:noFill/>
            <a:ln w="4320">
              <a:solidFill>
                <a:srgbClr val="92929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bject 17"/>
            <p:cNvSpPr/>
            <p:nvPr/>
          </p:nvSpPr>
          <p:spPr>
            <a:xfrm>
              <a:off x="2516760" y="4807440"/>
              <a:ext cx="360" cy="40320"/>
            </a:xfrm>
            <a:custGeom>
              <a:avLst/>
              <a:gdLst/>
              <a:ahLst/>
              <a:rect l="l" t="t" r="r" b="b"/>
              <a:pathLst>
                <a:path w="0" h="40671">
                  <a:moveTo>
                    <a:pt x="0" y="0"/>
                  </a:moveTo>
                  <a:lnTo>
                    <a:pt x="0" y="-24865"/>
                  </a:lnTo>
                </a:path>
              </a:pathLst>
            </a:custGeom>
            <a:noFill/>
            <a:ln w="4320">
              <a:solidFill>
                <a:srgbClr val="92929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bject 18"/>
            <p:cNvSpPr/>
            <p:nvPr/>
          </p:nvSpPr>
          <p:spPr>
            <a:xfrm>
              <a:off x="2986200" y="4807440"/>
              <a:ext cx="360" cy="40320"/>
            </a:xfrm>
            <a:custGeom>
              <a:avLst/>
              <a:gdLst/>
              <a:ahLst/>
              <a:rect l="l" t="t" r="r" b="b"/>
              <a:pathLst>
                <a:path w="0" h="40671">
                  <a:moveTo>
                    <a:pt x="0" y="0"/>
                  </a:moveTo>
                  <a:lnTo>
                    <a:pt x="0" y="-24865"/>
                  </a:lnTo>
                </a:path>
              </a:pathLst>
            </a:custGeom>
            <a:noFill/>
            <a:ln w="4320">
              <a:solidFill>
                <a:srgbClr val="92929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bject 19"/>
            <p:cNvSpPr/>
            <p:nvPr/>
          </p:nvSpPr>
          <p:spPr>
            <a:xfrm>
              <a:off x="3459960" y="4807440"/>
              <a:ext cx="360" cy="40320"/>
            </a:xfrm>
            <a:custGeom>
              <a:avLst/>
              <a:gdLst/>
              <a:ahLst/>
              <a:rect l="l" t="t" r="r" b="b"/>
              <a:pathLst>
                <a:path w="0" h="40671">
                  <a:moveTo>
                    <a:pt x="0" y="0"/>
                  </a:moveTo>
                  <a:lnTo>
                    <a:pt x="0" y="-24865"/>
                  </a:lnTo>
                </a:path>
              </a:pathLst>
            </a:custGeom>
            <a:noFill/>
            <a:ln w="4320">
              <a:solidFill>
                <a:srgbClr val="92929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bject 20"/>
            <p:cNvSpPr/>
            <p:nvPr/>
          </p:nvSpPr>
          <p:spPr>
            <a:xfrm>
              <a:off x="3929760" y="4807440"/>
              <a:ext cx="360" cy="40320"/>
            </a:xfrm>
            <a:custGeom>
              <a:avLst/>
              <a:gdLst/>
              <a:ahLst/>
              <a:rect l="l" t="t" r="r" b="b"/>
              <a:pathLst>
                <a:path w="0" h="40671">
                  <a:moveTo>
                    <a:pt x="0" y="0"/>
                  </a:moveTo>
                  <a:lnTo>
                    <a:pt x="0" y="-24865"/>
                  </a:lnTo>
                </a:path>
              </a:pathLst>
            </a:custGeom>
            <a:noFill/>
            <a:ln w="4320">
              <a:solidFill>
                <a:srgbClr val="92929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bject 21"/>
            <p:cNvSpPr/>
            <p:nvPr/>
          </p:nvSpPr>
          <p:spPr>
            <a:xfrm>
              <a:off x="4403520" y="4807440"/>
              <a:ext cx="360" cy="40320"/>
            </a:xfrm>
            <a:custGeom>
              <a:avLst/>
              <a:gdLst/>
              <a:ahLst/>
              <a:rect l="l" t="t" r="r" b="b"/>
              <a:pathLst>
                <a:path w="0" h="40671">
                  <a:moveTo>
                    <a:pt x="0" y="0"/>
                  </a:moveTo>
                  <a:lnTo>
                    <a:pt x="0" y="-24865"/>
                  </a:lnTo>
                </a:path>
              </a:pathLst>
            </a:custGeom>
            <a:noFill/>
            <a:ln w="4320">
              <a:solidFill>
                <a:srgbClr val="92929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bject 22"/>
            <p:cNvSpPr/>
            <p:nvPr/>
          </p:nvSpPr>
          <p:spPr>
            <a:xfrm>
              <a:off x="4873320" y="4807440"/>
              <a:ext cx="360" cy="40320"/>
            </a:xfrm>
            <a:custGeom>
              <a:avLst/>
              <a:gdLst/>
              <a:ahLst/>
              <a:rect l="l" t="t" r="r" b="b"/>
              <a:pathLst>
                <a:path w="0" h="40671">
                  <a:moveTo>
                    <a:pt x="0" y="0"/>
                  </a:moveTo>
                  <a:lnTo>
                    <a:pt x="0" y="-24865"/>
                  </a:lnTo>
                </a:path>
              </a:pathLst>
            </a:custGeom>
            <a:noFill/>
            <a:ln w="4320">
              <a:solidFill>
                <a:srgbClr val="92929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bject 23"/>
            <p:cNvSpPr/>
            <p:nvPr/>
          </p:nvSpPr>
          <p:spPr>
            <a:xfrm>
              <a:off x="5347080" y="4807440"/>
              <a:ext cx="360" cy="40320"/>
            </a:xfrm>
            <a:custGeom>
              <a:avLst/>
              <a:gdLst/>
              <a:ahLst/>
              <a:rect l="l" t="t" r="r" b="b"/>
              <a:pathLst>
                <a:path w="0" h="40671">
                  <a:moveTo>
                    <a:pt x="0" y="0"/>
                  </a:moveTo>
                  <a:lnTo>
                    <a:pt x="0" y="-24865"/>
                  </a:lnTo>
                </a:path>
              </a:pathLst>
            </a:custGeom>
            <a:noFill/>
            <a:ln w="4320">
              <a:solidFill>
                <a:srgbClr val="92929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bject 24"/>
            <p:cNvSpPr/>
            <p:nvPr/>
          </p:nvSpPr>
          <p:spPr>
            <a:xfrm>
              <a:off x="5816880" y="4807440"/>
              <a:ext cx="360" cy="40320"/>
            </a:xfrm>
            <a:custGeom>
              <a:avLst/>
              <a:gdLst/>
              <a:ahLst/>
              <a:rect l="l" t="t" r="r" b="b"/>
              <a:pathLst>
                <a:path w="0" h="40671">
                  <a:moveTo>
                    <a:pt x="0" y="0"/>
                  </a:moveTo>
                  <a:lnTo>
                    <a:pt x="0" y="-24865"/>
                  </a:lnTo>
                </a:path>
              </a:pathLst>
            </a:custGeom>
            <a:noFill/>
            <a:ln w="4320">
              <a:solidFill>
                <a:srgbClr val="92929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bject 25"/>
            <p:cNvSpPr/>
            <p:nvPr/>
          </p:nvSpPr>
          <p:spPr>
            <a:xfrm>
              <a:off x="6290640" y="4807440"/>
              <a:ext cx="360" cy="40320"/>
            </a:xfrm>
            <a:custGeom>
              <a:avLst/>
              <a:gdLst/>
              <a:ahLst/>
              <a:rect l="l" t="t" r="r" b="b"/>
              <a:pathLst>
                <a:path w="0" h="40671">
                  <a:moveTo>
                    <a:pt x="0" y="0"/>
                  </a:moveTo>
                  <a:lnTo>
                    <a:pt x="0" y="-24865"/>
                  </a:lnTo>
                </a:path>
              </a:pathLst>
            </a:custGeom>
            <a:noFill/>
            <a:ln w="4320">
              <a:solidFill>
                <a:srgbClr val="92929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bject 26"/>
            <p:cNvSpPr/>
            <p:nvPr/>
          </p:nvSpPr>
          <p:spPr>
            <a:xfrm>
              <a:off x="6760080" y="4807440"/>
              <a:ext cx="360" cy="40320"/>
            </a:xfrm>
            <a:custGeom>
              <a:avLst/>
              <a:gdLst/>
              <a:ahLst/>
              <a:rect l="l" t="t" r="r" b="b"/>
              <a:pathLst>
                <a:path w="0" h="40671">
                  <a:moveTo>
                    <a:pt x="0" y="0"/>
                  </a:moveTo>
                  <a:lnTo>
                    <a:pt x="0" y="-24865"/>
                  </a:lnTo>
                </a:path>
              </a:pathLst>
            </a:custGeom>
            <a:noFill/>
            <a:ln w="4320">
              <a:solidFill>
                <a:srgbClr val="92929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bject 27"/>
            <p:cNvSpPr/>
            <p:nvPr/>
          </p:nvSpPr>
          <p:spPr>
            <a:xfrm>
              <a:off x="7234200" y="4807440"/>
              <a:ext cx="360" cy="40320"/>
            </a:xfrm>
            <a:custGeom>
              <a:avLst/>
              <a:gdLst/>
              <a:ahLst/>
              <a:rect l="l" t="t" r="r" b="b"/>
              <a:pathLst>
                <a:path w="0" h="40671">
                  <a:moveTo>
                    <a:pt x="0" y="0"/>
                  </a:moveTo>
                  <a:lnTo>
                    <a:pt x="0" y="-24865"/>
                  </a:lnTo>
                </a:path>
              </a:pathLst>
            </a:custGeom>
            <a:noFill/>
            <a:ln w="4320">
              <a:solidFill>
                <a:srgbClr val="92929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bject 28"/>
            <p:cNvSpPr/>
            <p:nvPr/>
          </p:nvSpPr>
          <p:spPr>
            <a:xfrm>
              <a:off x="7703640" y="4807440"/>
              <a:ext cx="360" cy="40320"/>
            </a:xfrm>
            <a:custGeom>
              <a:avLst/>
              <a:gdLst/>
              <a:ahLst/>
              <a:rect l="l" t="t" r="r" b="b"/>
              <a:pathLst>
                <a:path w="0" h="40671">
                  <a:moveTo>
                    <a:pt x="0" y="0"/>
                  </a:moveTo>
                  <a:lnTo>
                    <a:pt x="0" y="-24865"/>
                  </a:lnTo>
                </a:path>
              </a:pathLst>
            </a:custGeom>
            <a:noFill/>
            <a:ln w="4320">
              <a:solidFill>
                <a:srgbClr val="92929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bject 29"/>
            <p:cNvSpPr/>
            <p:nvPr/>
          </p:nvSpPr>
          <p:spPr>
            <a:xfrm>
              <a:off x="8177400" y="4807440"/>
              <a:ext cx="360" cy="40320"/>
            </a:xfrm>
            <a:custGeom>
              <a:avLst/>
              <a:gdLst/>
              <a:ahLst/>
              <a:rect l="l" t="t" r="r" b="b"/>
              <a:pathLst>
                <a:path w="0" h="40671">
                  <a:moveTo>
                    <a:pt x="0" y="0"/>
                  </a:moveTo>
                  <a:lnTo>
                    <a:pt x="0" y="-24865"/>
                  </a:lnTo>
                </a:path>
              </a:pathLst>
            </a:custGeom>
            <a:noFill/>
            <a:ln w="4320">
              <a:solidFill>
                <a:srgbClr val="92929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bject 30"/>
            <p:cNvSpPr/>
            <p:nvPr/>
          </p:nvSpPr>
          <p:spPr>
            <a:xfrm>
              <a:off x="8647200" y="4807440"/>
              <a:ext cx="360" cy="40320"/>
            </a:xfrm>
            <a:custGeom>
              <a:avLst/>
              <a:gdLst/>
              <a:ahLst/>
              <a:rect l="l" t="t" r="r" b="b"/>
              <a:pathLst>
                <a:path w="0" h="40671">
                  <a:moveTo>
                    <a:pt x="0" y="0"/>
                  </a:moveTo>
                  <a:lnTo>
                    <a:pt x="0" y="-24865"/>
                  </a:lnTo>
                </a:path>
              </a:pathLst>
            </a:custGeom>
            <a:noFill/>
            <a:ln w="4320">
              <a:solidFill>
                <a:srgbClr val="92929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bject 31"/>
            <p:cNvSpPr/>
            <p:nvPr/>
          </p:nvSpPr>
          <p:spPr>
            <a:xfrm>
              <a:off x="2674800" y="4051440"/>
              <a:ext cx="15372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12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7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bject 32"/>
            <p:cNvSpPr/>
            <p:nvPr/>
          </p:nvSpPr>
          <p:spPr>
            <a:xfrm>
              <a:off x="3111480" y="3808440"/>
              <a:ext cx="21888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12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1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bject 33"/>
            <p:cNvSpPr/>
            <p:nvPr/>
          </p:nvSpPr>
          <p:spPr>
            <a:xfrm>
              <a:off x="3584520" y="3757680"/>
              <a:ext cx="21744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12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1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bject 34"/>
            <p:cNvSpPr/>
            <p:nvPr/>
          </p:nvSpPr>
          <p:spPr>
            <a:xfrm>
              <a:off x="4057560" y="3768840"/>
              <a:ext cx="21744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12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10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bject 35"/>
            <p:cNvSpPr/>
            <p:nvPr/>
          </p:nvSpPr>
          <p:spPr>
            <a:xfrm>
              <a:off x="4529160" y="3765600"/>
              <a:ext cx="21888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12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10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bject 36"/>
            <p:cNvSpPr/>
            <p:nvPr/>
          </p:nvSpPr>
          <p:spPr>
            <a:xfrm>
              <a:off x="5033880" y="3984840"/>
              <a:ext cx="15372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12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7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bject 37"/>
            <p:cNvSpPr/>
            <p:nvPr/>
          </p:nvSpPr>
          <p:spPr>
            <a:xfrm>
              <a:off x="5470560" y="3432240"/>
              <a:ext cx="21888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12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15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bject 38"/>
            <p:cNvSpPr/>
            <p:nvPr/>
          </p:nvSpPr>
          <p:spPr>
            <a:xfrm>
              <a:off x="5945400" y="3167280"/>
              <a:ext cx="21744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12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18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bject 39"/>
            <p:cNvSpPr/>
            <p:nvPr/>
          </p:nvSpPr>
          <p:spPr>
            <a:xfrm>
              <a:off x="6416640" y="3289320"/>
              <a:ext cx="21744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12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17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bject 40"/>
            <p:cNvSpPr/>
            <p:nvPr/>
          </p:nvSpPr>
          <p:spPr>
            <a:xfrm>
              <a:off x="6888240" y="3305160"/>
              <a:ext cx="21744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12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16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bject 41"/>
            <p:cNvSpPr/>
            <p:nvPr/>
          </p:nvSpPr>
          <p:spPr>
            <a:xfrm>
              <a:off x="7359840" y="3259080"/>
              <a:ext cx="21888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12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17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bject 42"/>
            <p:cNvSpPr/>
            <p:nvPr/>
          </p:nvSpPr>
          <p:spPr>
            <a:xfrm>
              <a:off x="7829640" y="1924200"/>
              <a:ext cx="21888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12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35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bject 43"/>
            <p:cNvSpPr/>
            <p:nvPr/>
          </p:nvSpPr>
          <p:spPr>
            <a:xfrm>
              <a:off x="8301240" y="1670040"/>
              <a:ext cx="21888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12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38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bject 44"/>
            <p:cNvSpPr/>
            <p:nvPr/>
          </p:nvSpPr>
          <p:spPr>
            <a:xfrm>
              <a:off x="2609640" y="4888080"/>
              <a:ext cx="28224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12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2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bject 45"/>
            <p:cNvSpPr/>
            <p:nvPr/>
          </p:nvSpPr>
          <p:spPr>
            <a:xfrm>
              <a:off x="3081240" y="4888080"/>
              <a:ext cx="28404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12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200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bject 46"/>
            <p:cNvSpPr/>
            <p:nvPr/>
          </p:nvSpPr>
          <p:spPr>
            <a:xfrm>
              <a:off x="3552840" y="4888080"/>
              <a:ext cx="28404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12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200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bject 47"/>
            <p:cNvSpPr/>
            <p:nvPr/>
          </p:nvSpPr>
          <p:spPr>
            <a:xfrm>
              <a:off x="4024440" y="4888080"/>
              <a:ext cx="28404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12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20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bject 48"/>
            <p:cNvSpPr/>
            <p:nvPr/>
          </p:nvSpPr>
          <p:spPr>
            <a:xfrm>
              <a:off x="4497480" y="4888080"/>
              <a:ext cx="28224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12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20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bject 49"/>
            <p:cNvSpPr/>
            <p:nvPr/>
          </p:nvSpPr>
          <p:spPr>
            <a:xfrm>
              <a:off x="4968720" y="4888080"/>
              <a:ext cx="28224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12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200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bject 50"/>
            <p:cNvSpPr/>
            <p:nvPr/>
          </p:nvSpPr>
          <p:spPr>
            <a:xfrm>
              <a:off x="5440320" y="4888080"/>
              <a:ext cx="28224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12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200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bject 51"/>
            <p:cNvSpPr/>
            <p:nvPr/>
          </p:nvSpPr>
          <p:spPr>
            <a:xfrm>
              <a:off x="5911920" y="4888080"/>
              <a:ext cx="28404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12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200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bject 52"/>
            <p:cNvSpPr/>
            <p:nvPr/>
          </p:nvSpPr>
          <p:spPr>
            <a:xfrm>
              <a:off x="6383520" y="4888080"/>
              <a:ext cx="28404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12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200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bject 53"/>
            <p:cNvSpPr/>
            <p:nvPr/>
          </p:nvSpPr>
          <p:spPr>
            <a:xfrm>
              <a:off x="6856560" y="4888080"/>
              <a:ext cx="28224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12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200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bject 54"/>
            <p:cNvSpPr/>
            <p:nvPr/>
          </p:nvSpPr>
          <p:spPr>
            <a:xfrm>
              <a:off x="7328160" y="4888080"/>
              <a:ext cx="28224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12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20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bject 55"/>
            <p:cNvSpPr/>
            <p:nvPr/>
          </p:nvSpPr>
          <p:spPr>
            <a:xfrm>
              <a:off x="7799400" y="4888080"/>
              <a:ext cx="28224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12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201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bject 56"/>
            <p:cNvSpPr/>
            <p:nvPr/>
          </p:nvSpPr>
          <p:spPr>
            <a:xfrm>
              <a:off x="8271000" y="4888080"/>
              <a:ext cx="28224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12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201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bject 57"/>
            <p:cNvSpPr/>
            <p:nvPr/>
          </p:nvSpPr>
          <p:spPr>
            <a:xfrm>
              <a:off x="492120" y="6212160"/>
              <a:ext cx="3076560" cy="18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12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lv-LV" sz="12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vots:  </a:t>
              </a:r>
              <a:r>
                <a:rPr b="0" lang="en-US" sz="1100" spc="-1" strike="noStrike">
                  <a:solidFill>
                    <a:srgbClr val="000000"/>
                  </a:solidFill>
                  <a:latin typeface="Century Gothic"/>
                  <a:ea typeface="Century Gothic"/>
                </a:rPr>
                <a:t>Embassy of Norway in Latvi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2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bject 60"/>
            <p:cNvSpPr/>
            <p:nvPr/>
          </p:nvSpPr>
          <p:spPr>
            <a:xfrm>
              <a:off x="7007760" y="5452920"/>
              <a:ext cx="1799640" cy="1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12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2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Pieaugums 100% apmērā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bject 61"/>
            <p:cNvSpPr/>
            <p:nvPr/>
          </p:nvSpPr>
          <p:spPr>
            <a:xfrm>
              <a:off x="6256440" y="2341440"/>
              <a:ext cx="134748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12600" algn="ctr"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2008 – 2010 </a:t>
              </a:r>
              <a:r>
                <a:rPr b="0" lang="lv-LV" sz="12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recesija Latvijā neietekmēja  investīciju plūsm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bject 62"/>
            <p:cNvSpPr/>
            <p:nvPr/>
          </p:nvSpPr>
          <p:spPr>
            <a:xfrm>
              <a:off x="6527880" y="2849040"/>
              <a:ext cx="17640" cy="382680"/>
            </a:xfrm>
            <a:custGeom>
              <a:avLst/>
              <a:gdLst/>
              <a:ahLst/>
              <a:rect l="l" t="t" r="r" b="b"/>
              <a:pathLst>
                <a:path w="17874" h="382809">
                  <a:moveTo>
                    <a:pt x="17874" y="0"/>
                  </a:moveTo>
                  <a:lnTo>
                    <a:pt x="0" y="382809"/>
                  </a:lnTo>
                </a:path>
              </a:pathLst>
            </a:custGeom>
            <a:noFill/>
            <a:ln w="12600">
              <a:solidFill>
                <a:srgbClr val="ce1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bject 63"/>
            <p:cNvSpPr/>
            <p:nvPr/>
          </p:nvSpPr>
          <p:spPr>
            <a:xfrm>
              <a:off x="6472440" y="3139200"/>
              <a:ext cx="117720" cy="117720"/>
            </a:xfrm>
            <a:custGeom>
              <a:avLst/>
              <a:gdLst/>
              <a:ahLst/>
              <a:rect l="l" t="t" r="r" b="b"/>
              <a:pathLst>
                <a:path w="117779" h="117871">
                  <a:moveTo>
                    <a:pt x="14839" y="0"/>
                  </a:moveTo>
                  <a:lnTo>
                    <a:pt x="2406" y="6494"/>
                  </a:lnTo>
                  <a:lnTo>
                    <a:pt x="0" y="14168"/>
                  </a:lnTo>
                  <a:lnTo>
                    <a:pt x="54175" y="117871"/>
                  </a:lnTo>
                  <a:lnTo>
                    <a:pt x="86788" y="67517"/>
                  </a:lnTo>
                  <a:lnTo>
                    <a:pt x="56527" y="67517"/>
                  </a:lnTo>
                  <a:lnTo>
                    <a:pt x="22513" y="2406"/>
                  </a:lnTo>
                  <a:lnTo>
                    <a:pt x="14839" y="0"/>
                  </a:lnTo>
                  <a:close/>
                </a:path>
                <a:path w="117779" h="117871">
                  <a:moveTo>
                    <a:pt x="104324" y="4178"/>
                  </a:moveTo>
                  <a:lnTo>
                    <a:pt x="96461" y="5859"/>
                  </a:lnTo>
                  <a:lnTo>
                    <a:pt x="56527" y="67517"/>
                  </a:lnTo>
                  <a:lnTo>
                    <a:pt x="86788" y="67517"/>
                  </a:lnTo>
                  <a:lnTo>
                    <a:pt x="117779" y="19667"/>
                  </a:lnTo>
                  <a:lnTo>
                    <a:pt x="116098" y="11803"/>
                  </a:lnTo>
                  <a:lnTo>
                    <a:pt x="104324" y="4178"/>
                  </a:lnTo>
                  <a:close/>
                </a:path>
              </a:pathLst>
            </a:custGeom>
            <a:solidFill>
              <a:srgbClr val="ce1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bject 64"/>
            <p:cNvSpPr/>
            <p:nvPr/>
          </p:nvSpPr>
          <p:spPr>
            <a:xfrm>
              <a:off x="7121880" y="2845800"/>
              <a:ext cx="323280" cy="321840"/>
            </a:xfrm>
            <a:custGeom>
              <a:avLst/>
              <a:gdLst/>
              <a:ahLst/>
              <a:rect l="l" t="t" r="r" b="b"/>
              <a:pathLst>
                <a:path w="323448" h="321944">
                  <a:moveTo>
                    <a:pt x="0" y="0"/>
                  </a:moveTo>
                  <a:lnTo>
                    <a:pt x="323448" y="321944"/>
                  </a:lnTo>
                </a:path>
              </a:pathLst>
            </a:custGeom>
            <a:noFill/>
            <a:ln w="12600">
              <a:solidFill>
                <a:srgbClr val="ce1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bject 65"/>
            <p:cNvSpPr/>
            <p:nvPr/>
          </p:nvSpPr>
          <p:spPr>
            <a:xfrm>
              <a:off x="7346160" y="3068640"/>
              <a:ext cx="117000" cy="117000"/>
            </a:xfrm>
            <a:custGeom>
              <a:avLst/>
              <a:gdLst/>
              <a:ahLst/>
              <a:rect l="l" t="t" r="r" b="b"/>
              <a:pathLst>
                <a:path w="117287" h="117116">
                  <a:moveTo>
                    <a:pt x="10474" y="63025"/>
                  </a:moveTo>
                  <a:lnTo>
                    <a:pt x="3538" y="67092"/>
                  </a:lnTo>
                  <a:lnTo>
                    <a:pt x="0" y="80667"/>
                  </a:lnTo>
                  <a:lnTo>
                    <a:pt x="4067" y="87603"/>
                  </a:lnTo>
                  <a:lnTo>
                    <a:pt x="117287" y="117116"/>
                  </a:lnTo>
                  <a:lnTo>
                    <a:pt x="107840" y="81554"/>
                  </a:lnTo>
                  <a:lnTo>
                    <a:pt x="81559" y="81554"/>
                  </a:lnTo>
                  <a:lnTo>
                    <a:pt x="10474" y="63025"/>
                  </a:lnTo>
                  <a:close/>
                </a:path>
                <a:path w="117287" h="117116">
                  <a:moveTo>
                    <a:pt x="80291" y="0"/>
                  </a:moveTo>
                  <a:lnTo>
                    <a:pt x="66734" y="3601"/>
                  </a:lnTo>
                  <a:lnTo>
                    <a:pt x="62698" y="10557"/>
                  </a:lnTo>
                  <a:lnTo>
                    <a:pt x="81559" y="81554"/>
                  </a:lnTo>
                  <a:lnTo>
                    <a:pt x="107840" y="81554"/>
                  </a:lnTo>
                  <a:lnTo>
                    <a:pt x="87247" y="4036"/>
                  </a:lnTo>
                  <a:lnTo>
                    <a:pt x="80291" y="0"/>
                  </a:lnTo>
                  <a:close/>
                </a:path>
              </a:pathLst>
            </a:custGeom>
            <a:solidFill>
              <a:srgbClr val="ce1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bject 66"/>
            <p:cNvSpPr/>
            <p:nvPr/>
          </p:nvSpPr>
          <p:spPr>
            <a:xfrm>
              <a:off x="6963120" y="2853720"/>
              <a:ext cx="64440" cy="451080"/>
            </a:xfrm>
            <a:custGeom>
              <a:avLst/>
              <a:gdLst/>
              <a:ahLst/>
              <a:rect l="l" t="t" r="r" b="b"/>
              <a:pathLst>
                <a:path w="64685" h="451300">
                  <a:moveTo>
                    <a:pt x="0" y="0"/>
                  </a:moveTo>
                  <a:lnTo>
                    <a:pt x="64685" y="451300"/>
                  </a:lnTo>
                </a:path>
              </a:pathLst>
            </a:custGeom>
            <a:noFill/>
            <a:ln w="12600">
              <a:solidFill>
                <a:srgbClr val="ce1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bject 67"/>
            <p:cNvSpPr/>
            <p:nvPr/>
          </p:nvSpPr>
          <p:spPr>
            <a:xfrm>
              <a:off x="6958800" y="3209040"/>
              <a:ext cx="116640" cy="120960"/>
            </a:xfrm>
            <a:custGeom>
              <a:avLst/>
              <a:gdLst/>
              <a:ahLst/>
              <a:rect l="l" t="t" r="r" b="b"/>
              <a:pathLst>
                <a:path w="116714" h="121090">
                  <a:moveTo>
                    <a:pt x="11913" y="12710"/>
                  </a:moveTo>
                  <a:lnTo>
                    <a:pt x="922" y="21426"/>
                  </a:lnTo>
                  <a:lnTo>
                    <a:pt x="0" y="29414"/>
                  </a:lnTo>
                  <a:lnTo>
                    <a:pt x="72696" y="121090"/>
                  </a:lnTo>
                  <a:lnTo>
                    <a:pt x="92957" y="71191"/>
                  </a:lnTo>
                  <a:lnTo>
                    <a:pt x="65543" y="71191"/>
                  </a:lnTo>
                  <a:lnTo>
                    <a:pt x="19900" y="13632"/>
                  </a:lnTo>
                  <a:lnTo>
                    <a:pt x="11913" y="12710"/>
                  </a:lnTo>
                  <a:close/>
                </a:path>
                <a:path w="116714" h="121090">
                  <a:moveTo>
                    <a:pt x="100587" y="0"/>
                  </a:moveTo>
                  <a:lnTo>
                    <a:pt x="93181" y="3129"/>
                  </a:lnTo>
                  <a:lnTo>
                    <a:pt x="65543" y="71191"/>
                  </a:lnTo>
                  <a:lnTo>
                    <a:pt x="92957" y="71191"/>
                  </a:lnTo>
                  <a:lnTo>
                    <a:pt x="116714" y="12684"/>
                  </a:lnTo>
                  <a:lnTo>
                    <a:pt x="113584" y="5276"/>
                  </a:lnTo>
                  <a:lnTo>
                    <a:pt x="100587" y="0"/>
                  </a:lnTo>
                  <a:close/>
                </a:path>
              </a:pathLst>
            </a:custGeom>
            <a:solidFill>
              <a:srgbClr val="ce1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bject 68"/>
            <p:cNvSpPr/>
            <p:nvPr/>
          </p:nvSpPr>
          <p:spPr>
            <a:xfrm>
              <a:off x="4078440" y="1563480"/>
              <a:ext cx="932760" cy="937440"/>
            </a:xfrm>
            <a:custGeom>
              <a:avLst/>
              <a:gdLst/>
              <a:ahLst/>
              <a:rect l="l" t="t" r="r" b="b"/>
              <a:pathLst>
                <a:path w="933027" h="937524">
                  <a:moveTo>
                    <a:pt x="0" y="0"/>
                  </a:moveTo>
                  <a:lnTo>
                    <a:pt x="0" y="937524"/>
                  </a:lnTo>
                  <a:lnTo>
                    <a:pt x="933027" y="845809"/>
                  </a:lnTo>
                  <a:lnTo>
                    <a:pt x="923312" y="774704"/>
                  </a:lnTo>
                  <a:lnTo>
                    <a:pt x="908459" y="705500"/>
                  </a:lnTo>
                  <a:lnTo>
                    <a:pt x="888676" y="638384"/>
                  </a:lnTo>
                  <a:lnTo>
                    <a:pt x="864172" y="573545"/>
                  </a:lnTo>
                  <a:lnTo>
                    <a:pt x="835156" y="511174"/>
                  </a:lnTo>
                  <a:lnTo>
                    <a:pt x="801834" y="451458"/>
                  </a:lnTo>
                  <a:lnTo>
                    <a:pt x="764417" y="394586"/>
                  </a:lnTo>
                  <a:lnTo>
                    <a:pt x="723111" y="340747"/>
                  </a:lnTo>
                  <a:lnTo>
                    <a:pt x="678126" y="290130"/>
                  </a:lnTo>
                  <a:lnTo>
                    <a:pt x="629669" y="242924"/>
                  </a:lnTo>
                  <a:lnTo>
                    <a:pt x="577949" y="199318"/>
                  </a:lnTo>
                  <a:lnTo>
                    <a:pt x="523174" y="159500"/>
                  </a:lnTo>
                  <a:lnTo>
                    <a:pt x="465553" y="123659"/>
                  </a:lnTo>
                  <a:lnTo>
                    <a:pt x="405293" y="91984"/>
                  </a:lnTo>
                  <a:lnTo>
                    <a:pt x="342604" y="64665"/>
                  </a:lnTo>
                  <a:lnTo>
                    <a:pt x="277693" y="41889"/>
                  </a:lnTo>
                  <a:lnTo>
                    <a:pt x="210769" y="23845"/>
                  </a:lnTo>
                  <a:lnTo>
                    <a:pt x="142040" y="10724"/>
                  </a:lnTo>
                  <a:lnTo>
                    <a:pt x="71714" y="27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bject 69"/>
            <p:cNvSpPr/>
            <p:nvPr/>
          </p:nvSpPr>
          <p:spPr>
            <a:xfrm>
              <a:off x="4078440" y="2409480"/>
              <a:ext cx="937440" cy="523440"/>
            </a:xfrm>
            <a:custGeom>
              <a:avLst/>
              <a:gdLst/>
              <a:ahLst/>
              <a:rect l="l" t="t" r="r" b="b"/>
              <a:pathLst>
                <a:path w="937466" h="523645">
                  <a:moveTo>
                    <a:pt x="933027" y="0"/>
                  </a:moveTo>
                  <a:lnTo>
                    <a:pt x="0" y="91714"/>
                  </a:lnTo>
                  <a:lnTo>
                    <a:pt x="832096" y="523645"/>
                  </a:lnTo>
                  <a:lnTo>
                    <a:pt x="844275" y="499327"/>
                  </a:lnTo>
                  <a:lnTo>
                    <a:pt x="866435" y="449820"/>
                  </a:lnTo>
                  <a:lnTo>
                    <a:pt x="885642" y="399264"/>
                  </a:lnTo>
                  <a:lnTo>
                    <a:pt x="901872" y="347790"/>
                  </a:lnTo>
                  <a:lnTo>
                    <a:pt x="915099" y="295532"/>
                  </a:lnTo>
                  <a:lnTo>
                    <a:pt x="925298" y="242621"/>
                  </a:lnTo>
                  <a:lnTo>
                    <a:pt x="932442" y="189190"/>
                  </a:lnTo>
                  <a:lnTo>
                    <a:pt x="936507" y="135371"/>
                  </a:lnTo>
                  <a:lnTo>
                    <a:pt x="937466" y="81298"/>
                  </a:lnTo>
                  <a:lnTo>
                    <a:pt x="936773" y="54207"/>
                  </a:lnTo>
                  <a:lnTo>
                    <a:pt x="935294" y="27102"/>
                  </a:lnTo>
                  <a:lnTo>
                    <a:pt x="933027" y="0"/>
                  </a:lnTo>
                  <a:close/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bject 70"/>
            <p:cNvSpPr/>
            <p:nvPr/>
          </p:nvSpPr>
          <p:spPr>
            <a:xfrm>
              <a:off x="4078440" y="2409480"/>
              <a:ext cx="937440" cy="523440"/>
            </a:xfrm>
            <a:custGeom>
              <a:avLst/>
              <a:gdLst/>
              <a:ahLst/>
              <a:rect l="l" t="t" r="r" b="b"/>
              <a:pathLst>
                <a:path w="937465" h="523645">
                  <a:moveTo>
                    <a:pt x="933026" y="0"/>
                  </a:moveTo>
                  <a:lnTo>
                    <a:pt x="935293" y="27102"/>
                  </a:lnTo>
                  <a:lnTo>
                    <a:pt x="936772" y="54207"/>
                  </a:lnTo>
                  <a:lnTo>
                    <a:pt x="937465" y="81298"/>
                  </a:lnTo>
                  <a:lnTo>
                    <a:pt x="937375" y="108359"/>
                  </a:lnTo>
                  <a:lnTo>
                    <a:pt x="934860" y="162321"/>
                  </a:lnTo>
                  <a:lnTo>
                    <a:pt x="929252" y="215963"/>
                  </a:lnTo>
                  <a:lnTo>
                    <a:pt x="920578" y="269150"/>
                  </a:lnTo>
                  <a:lnTo>
                    <a:pt x="908862" y="321752"/>
                  </a:lnTo>
                  <a:lnTo>
                    <a:pt x="894130" y="373634"/>
                  </a:lnTo>
                  <a:lnTo>
                    <a:pt x="876408" y="424666"/>
                  </a:lnTo>
                  <a:lnTo>
                    <a:pt x="855722" y="474714"/>
                  </a:lnTo>
                  <a:lnTo>
                    <a:pt x="832096" y="523645"/>
                  </a:lnTo>
                  <a:lnTo>
                    <a:pt x="0" y="91714"/>
                  </a:lnTo>
                  <a:lnTo>
                    <a:pt x="933026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bject 71"/>
            <p:cNvSpPr/>
            <p:nvPr/>
          </p:nvSpPr>
          <p:spPr>
            <a:xfrm>
              <a:off x="4078440" y="2501280"/>
              <a:ext cx="831960" cy="777960"/>
            </a:xfrm>
            <a:custGeom>
              <a:avLst/>
              <a:gdLst/>
              <a:ahLst/>
              <a:rect l="l" t="t" r="r" b="b"/>
              <a:pathLst>
                <a:path w="832096" h="777892">
                  <a:moveTo>
                    <a:pt x="0" y="0"/>
                  </a:moveTo>
                  <a:lnTo>
                    <a:pt x="523288" y="777892"/>
                  </a:lnTo>
                  <a:lnTo>
                    <a:pt x="542648" y="764513"/>
                  </a:lnTo>
                  <a:lnTo>
                    <a:pt x="561640" y="750672"/>
                  </a:lnTo>
                  <a:lnTo>
                    <a:pt x="598488" y="721637"/>
                  </a:lnTo>
                  <a:lnTo>
                    <a:pt x="633773" y="690854"/>
                  </a:lnTo>
                  <a:lnTo>
                    <a:pt x="667436" y="658389"/>
                  </a:lnTo>
                  <a:lnTo>
                    <a:pt x="699420" y="624307"/>
                  </a:lnTo>
                  <a:lnTo>
                    <a:pt x="729666" y="588672"/>
                  </a:lnTo>
                  <a:lnTo>
                    <a:pt x="758115" y="551552"/>
                  </a:lnTo>
                  <a:lnTo>
                    <a:pt x="784708" y="513011"/>
                  </a:lnTo>
                  <a:lnTo>
                    <a:pt x="809388" y="473116"/>
                  </a:lnTo>
                  <a:lnTo>
                    <a:pt x="832096" y="4319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bject 72"/>
            <p:cNvSpPr/>
            <p:nvPr/>
          </p:nvSpPr>
          <p:spPr>
            <a:xfrm>
              <a:off x="4078440" y="2501280"/>
              <a:ext cx="831960" cy="777960"/>
            </a:xfrm>
            <a:custGeom>
              <a:avLst/>
              <a:gdLst/>
              <a:ahLst/>
              <a:rect l="l" t="t" r="r" b="b"/>
              <a:pathLst>
                <a:path w="832096" h="777893">
                  <a:moveTo>
                    <a:pt x="832096" y="431931"/>
                  </a:moveTo>
                  <a:lnTo>
                    <a:pt x="809388" y="473117"/>
                  </a:lnTo>
                  <a:lnTo>
                    <a:pt x="784708" y="513012"/>
                  </a:lnTo>
                  <a:lnTo>
                    <a:pt x="758114" y="551553"/>
                  </a:lnTo>
                  <a:lnTo>
                    <a:pt x="729665" y="588673"/>
                  </a:lnTo>
                  <a:lnTo>
                    <a:pt x="699420" y="624307"/>
                  </a:lnTo>
                  <a:lnTo>
                    <a:pt x="667436" y="658390"/>
                  </a:lnTo>
                  <a:lnTo>
                    <a:pt x="633772" y="690855"/>
                  </a:lnTo>
                  <a:lnTo>
                    <a:pt x="598488" y="721638"/>
                  </a:lnTo>
                  <a:lnTo>
                    <a:pt x="561640" y="750672"/>
                  </a:lnTo>
                  <a:lnTo>
                    <a:pt x="523288" y="777893"/>
                  </a:lnTo>
                  <a:lnTo>
                    <a:pt x="0" y="0"/>
                  </a:lnTo>
                  <a:lnTo>
                    <a:pt x="832096" y="431931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bject 73"/>
            <p:cNvSpPr/>
            <p:nvPr/>
          </p:nvSpPr>
          <p:spPr>
            <a:xfrm>
              <a:off x="4078440" y="2501280"/>
              <a:ext cx="523080" cy="920160"/>
            </a:xfrm>
            <a:custGeom>
              <a:avLst/>
              <a:gdLst/>
              <a:ahLst/>
              <a:rect l="l" t="t" r="r" b="b"/>
              <a:pathLst>
                <a:path w="523288" h="920365">
                  <a:moveTo>
                    <a:pt x="0" y="0"/>
                  </a:moveTo>
                  <a:lnTo>
                    <a:pt x="178540" y="920365"/>
                  </a:lnTo>
                  <a:lnTo>
                    <a:pt x="196988" y="916593"/>
                  </a:lnTo>
                  <a:lnTo>
                    <a:pt x="215341" y="912456"/>
                  </a:lnTo>
                  <a:lnTo>
                    <a:pt x="269769" y="897871"/>
                  </a:lnTo>
                  <a:lnTo>
                    <a:pt x="323143" y="880071"/>
                  </a:lnTo>
                  <a:lnTo>
                    <a:pt x="375323" y="859115"/>
                  </a:lnTo>
                  <a:lnTo>
                    <a:pt x="426168" y="835061"/>
                  </a:lnTo>
                  <a:lnTo>
                    <a:pt x="475537" y="807968"/>
                  </a:lnTo>
                  <a:lnTo>
                    <a:pt x="523288" y="7778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bject 74"/>
            <p:cNvSpPr/>
            <p:nvPr/>
          </p:nvSpPr>
          <p:spPr>
            <a:xfrm>
              <a:off x="4078440" y="2501280"/>
              <a:ext cx="523080" cy="920160"/>
            </a:xfrm>
            <a:custGeom>
              <a:avLst/>
              <a:gdLst/>
              <a:ahLst/>
              <a:rect l="l" t="t" r="r" b="b"/>
              <a:pathLst>
                <a:path w="523288" h="920365">
                  <a:moveTo>
                    <a:pt x="523288" y="777893"/>
                  </a:moveTo>
                  <a:lnTo>
                    <a:pt x="475536" y="807969"/>
                  </a:lnTo>
                  <a:lnTo>
                    <a:pt x="426168" y="835062"/>
                  </a:lnTo>
                  <a:lnTo>
                    <a:pt x="375323" y="859116"/>
                  </a:lnTo>
                  <a:lnTo>
                    <a:pt x="323142" y="880072"/>
                  </a:lnTo>
                  <a:lnTo>
                    <a:pt x="269768" y="897872"/>
                  </a:lnTo>
                  <a:lnTo>
                    <a:pt x="215340" y="912457"/>
                  </a:lnTo>
                  <a:lnTo>
                    <a:pt x="178539" y="920365"/>
                  </a:lnTo>
                  <a:lnTo>
                    <a:pt x="0" y="0"/>
                  </a:lnTo>
                  <a:lnTo>
                    <a:pt x="523288" y="777893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bject 75"/>
            <p:cNvSpPr/>
            <p:nvPr/>
          </p:nvSpPr>
          <p:spPr>
            <a:xfrm>
              <a:off x="3940200" y="2501280"/>
              <a:ext cx="316800" cy="937440"/>
            </a:xfrm>
            <a:custGeom>
              <a:avLst/>
              <a:gdLst/>
              <a:ahLst/>
              <a:rect l="l" t="t" r="r" b="b"/>
              <a:pathLst>
                <a:path w="316976" h="937511">
                  <a:moveTo>
                    <a:pt x="138436" y="0"/>
                  </a:moveTo>
                  <a:lnTo>
                    <a:pt x="0" y="927244"/>
                  </a:lnTo>
                  <a:lnTo>
                    <a:pt x="15806" y="929467"/>
                  </a:lnTo>
                  <a:lnTo>
                    <a:pt x="31637" y="931419"/>
                  </a:lnTo>
                  <a:lnTo>
                    <a:pt x="79248" y="935651"/>
                  </a:lnTo>
                  <a:lnTo>
                    <a:pt x="126961" y="937451"/>
                  </a:lnTo>
                  <a:lnTo>
                    <a:pt x="142872" y="937511"/>
                  </a:lnTo>
                  <a:lnTo>
                    <a:pt x="158781" y="937301"/>
                  </a:lnTo>
                  <a:lnTo>
                    <a:pt x="206458" y="935051"/>
                  </a:lnTo>
                  <a:lnTo>
                    <a:pt x="253989" y="930374"/>
                  </a:lnTo>
                  <a:lnTo>
                    <a:pt x="301281" y="923271"/>
                  </a:lnTo>
                  <a:lnTo>
                    <a:pt x="316976" y="920365"/>
                  </a:lnTo>
                  <a:lnTo>
                    <a:pt x="138436" y="0"/>
                  </a:lnTo>
                  <a:close/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bject 76"/>
            <p:cNvSpPr/>
            <p:nvPr/>
          </p:nvSpPr>
          <p:spPr>
            <a:xfrm>
              <a:off x="3940200" y="2501280"/>
              <a:ext cx="316800" cy="937440"/>
            </a:xfrm>
            <a:custGeom>
              <a:avLst/>
              <a:gdLst/>
              <a:ahLst/>
              <a:rect l="l" t="t" r="r" b="b"/>
              <a:pathLst>
                <a:path w="316977" h="937512">
                  <a:moveTo>
                    <a:pt x="316977" y="920365"/>
                  </a:moveTo>
                  <a:lnTo>
                    <a:pt x="269785" y="928276"/>
                  </a:lnTo>
                  <a:lnTo>
                    <a:pt x="222323" y="933762"/>
                  </a:lnTo>
                  <a:lnTo>
                    <a:pt x="174684" y="936822"/>
                  </a:lnTo>
                  <a:lnTo>
                    <a:pt x="142873" y="937512"/>
                  </a:lnTo>
                  <a:lnTo>
                    <a:pt x="126961" y="937452"/>
                  </a:lnTo>
                  <a:lnTo>
                    <a:pt x="79248" y="935652"/>
                  </a:lnTo>
                  <a:lnTo>
                    <a:pt x="31637" y="931420"/>
                  </a:lnTo>
                  <a:lnTo>
                    <a:pt x="0" y="927245"/>
                  </a:lnTo>
                  <a:lnTo>
                    <a:pt x="138437" y="0"/>
                  </a:lnTo>
                  <a:lnTo>
                    <a:pt x="316977" y="920365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bject 77"/>
            <p:cNvSpPr/>
            <p:nvPr/>
          </p:nvSpPr>
          <p:spPr>
            <a:xfrm>
              <a:off x="3642120" y="2501280"/>
              <a:ext cx="436320" cy="927000"/>
            </a:xfrm>
            <a:custGeom>
              <a:avLst/>
              <a:gdLst/>
              <a:ahLst/>
              <a:rect l="l" t="t" r="r" b="b"/>
              <a:pathLst>
                <a:path w="436474" h="927244">
                  <a:moveTo>
                    <a:pt x="436474" y="0"/>
                  </a:moveTo>
                  <a:lnTo>
                    <a:pt x="0" y="829721"/>
                  </a:lnTo>
                  <a:lnTo>
                    <a:pt x="14031" y="836952"/>
                  </a:lnTo>
                  <a:lnTo>
                    <a:pt x="28173" y="843941"/>
                  </a:lnTo>
                  <a:lnTo>
                    <a:pt x="71231" y="863449"/>
                  </a:lnTo>
                  <a:lnTo>
                    <a:pt x="115171" y="880745"/>
                  </a:lnTo>
                  <a:lnTo>
                    <a:pt x="159907" y="895800"/>
                  </a:lnTo>
                  <a:lnTo>
                    <a:pt x="205354" y="908587"/>
                  </a:lnTo>
                  <a:lnTo>
                    <a:pt x="251426" y="919078"/>
                  </a:lnTo>
                  <a:lnTo>
                    <a:pt x="298038" y="927244"/>
                  </a:lnTo>
                  <a:lnTo>
                    <a:pt x="436474" y="0"/>
                  </a:lnTo>
                  <a:close/>
                </a:path>
              </a:pathLst>
            </a:custGeom>
            <a:solidFill>
              <a:srgbClr val="275d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bject 78"/>
            <p:cNvSpPr/>
            <p:nvPr/>
          </p:nvSpPr>
          <p:spPr>
            <a:xfrm>
              <a:off x="3642120" y="2501280"/>
              <a:ext cx="436320" cy="927000"/>
            </a:xfrm>
            <a:custGeom>
              <a:avLst/>
              <a:gdLst/>
              <a:ahLst/>
              <a:rect l="l" t="t" r="r" b="b"/>
              <a:pathLst>
                <a:path w="436475" h="927245">
                  <a:moveTo>
                    <a:pt x="298038" y="927245"/>
                  </a:moveTo>
                  <a:lnTo>
                    <a:pt x="251426" y="919079"/>
                  </a:lnTo>
                  <a:lnTo>
                    <a:pt x="205354" y="908588"/>
                  </a:lnTo>
                  <a:lnTo>
                    <a:pt x="159908" y="895801"/>
                  </a:lnTo>
                  <a:lnTo>
                    <a:pt x="115171" y="880745"/>
                  </a:lnTo>
                  <a:lnTo>
                    <a:pt x="71231" y="863450"/>
                  </a:lnTo>
                  <a:lnTo>
                    <a:pt x="28173" y="843942"/>
                  </a:lnTo>
                  <a:lnTo>
                    <a:pt x="0" y="829721"/>
                  </a:lnTo>
                  <a:lnTo>
                    <a:pt x="436475" y="0"/>
                  </a:lnTo>
                  <a:lnTo>
                    <a:pt x="298038" y="927245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bject 79"/>
            <p:cNvSpPr/>
            <p:nvPr/>
          </p:nvSpPr>
          <p:spPr>
            <a:xfrm>
              <a:off x="3414240" y="2501280"/>
              <a:ext cx="664200" cy="829800"/>
            </a:xfrm>
            <a:custGeom>
              <a:avLst/>
              <a:gdLst/>
              <a:ahLst/>
              <a:rect l="l" t="t" r="r" b="b"/>
              <a:pathLst>
                <a:path w="664479" h="829721">
                  <a:moveTo>
                    <a:pt x="664479" y="0"/>
                  </a:moveTo>
                  <a:lnTo>
                    <a:pt x="0" y="661374"/>
                  </a:lnTo>
                  <a:lnTo>
                    <a:pt x="10128" y="671396"/>
                  </a:lnTo>
                  <a:lnTo>
                    <a:pt x="20402" y="681258"/>
                  </a:lnTo>
                  <a:lnTo>
                    <a:pt x="52078" y="709868"/>
                  </a:lnTo>
                  <a:lnTo>
                    <a:pt x="84995" y="736985"/>
                  </a:lnTo>
                  <a:lnTo>
                    <a:pt x="119100" y="762567"/>
                  </a:lnTo>
                  <a:lnTo>
                    <a:pt x="154339" y="786577"/>
                  </a:lnTo>
                  <a:lnTo>
                    <a:pt x="190658" y="808975"/>
                  </a:lnTo>
                  <a:lnTo>
                    <a:pt x="228004" y="829721"/>
                  </a:lnTo>
                  <a:lnTo>
                    <a:pt x="664479" y="0"/>
                  </a:lnTo>
                  <a:close/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bject 80"/>
            <p:cNvSpPr/>
            <p:nvPr/>
          </p:nvSpPr>
          <p:spPr>
            <a:xfrm>
              <a:off x="3414240" y="2501280"/>
              <a:ext cx="664200" cy="829800"/>
            </a:xfrm>
            <a:custGeom>
              <a:avLst/>
              <a:gdLst/>
              <a:ahLst/>
              <a:rect l="l" t="t" r="r" b="b"/>
              <a:pathLst>
                <a:path w="664480" h="829721">
                  <a:moveTo>
                    <a:pt x="228004" y="829721"/>
                  </a:moveTo>
                  <a:lnTo>
                    <a:pt x="190658" y="808976"/>
                  </a:lnTo>
                  <a:lnTo>
                    <a:pt x="154339" y="786578"/>
                  </a:lnTo>
                  <a:lnTo>
                    <a:pt x="119100" y="762568"/>
                  </a:lnTo>
                  <a:lnTo>
                    <a:pt x="84996" y="736986"/>
                  </a:lnTo>
                  <a:lnTo>
                    <a:pt x="52078" y="709869"/>
                  </a:lnTo>
                  <a:lnTo>
                    <a:pt x="20402" y="681259"/>
                  </a:lnTo>
                  <a:lnTo>
                    <a:pt x="0" y="661374"/>
                  </a:lnTo>
                  <a:lnTo>
                    <a:pt x="664480" y="0"/>
                  </a:lnTo>
                  <a:lnTo>
                    <a:pt x="228004" y="829721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bject 81"/>
            <p:cNvSpPr/>
            <p:nvPr/>
          </p:nvSpPr>
          <p:spPr>
            <a:xfrm>
              <a:off x="3249720" y="2501280"/>
              <a:ext cx="828720" cy="661320"/>
            </a:xfrm>
            <a:custGeom>
              <a:avLst/>
              <a:gdLst/>
              <a:ahLst/>
              <a:rect l="l" t="t" r="r" b="b"/>
              <a:pathLst>
                <a:path w="828835" h="661372">
                  <a:moveTo>
                    <a:pt x="828835" y="0"/>
                  </a:moveTo>
                  <a:lnTo>
                    <a:pt x="0" y="438155"/>
                  </a:lnTo>
                  <a:lnTo>
                    <a:pt x="6602" y="450423"/>
                  </a:lnTo>
                  <a:lnTo>
                    <a:pt x="13383" y="462586"/>
                  </a:lnTo>
                  <a:lnTo>
                    <a:pt x="34781" y="498424"/>
                  </a:lnTo>
                  <a:lnTo>
                    <a:pt x="57734" y="533246"/>
                  </a:lnTo>
                  <a:lnTo>
                    <a:pt x="82205" y="567002"/>
                  </a:lnTo>
                  <a:lnTo>
                    <a:pt x="108156" y="599641"/>
                  </a:lnTo>
                  <a:lnTo>
                    <a:pt x="135552" y="631115"/>
                  </a:lnTo>
                  <a:lnTo>
                    <a:pt x="164355" y="661372"/>
                  </a:lnTo>
                  <a:lnTo>
                    <a:pt x="828835" y="0"/>
                  </a:lnTo>
                  <a:close/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bject 82"/>
            <p:cNvSpPr/>
            <p:nvPr/>
          </p:nvSpPr>
          <p:spPr>
            <a:xfrm>
              <a:off x="3249720" y="2501280"/>
              <a:ext cx="828720" cy="661320"/>
            </a:xfrm>
            <a:custGeom>
              <a:avLst/>
              <a:gdLst/>
              <a:ahLst/>
              <a:rect l="l" t="t" r="r" b="b"/>
              <a:pathLst>
                <a:path w="828835" h="661373">
                  <a:moveTo>
                    <a:pt x="164355" y="661373"/>
                  </a:moveTo>
                  <a:lnTo>
                    <a:pt x="135552" y="631116"/>
                  </a:lnTo>
                  <a:lnTo>
                    <a:pt x="108156" y="599642"/>
                  </a:lnTo>
                  <a:lnTo>
                    <a:pt x="82205" y="567003"/>
                  </a:lnTo>
                  <a:lnTo>
                    <a:pt x="57734" y="533247"/>
                  </a:lnTo>
                  <a:lnTo>
                    <a:pt x="34782" y="498425"/>
                  </a:lnTo>
                  <a:lnTo>
                    <a:pt x="13383" y="462587"/>
                  </a:lnTo>
                  <a:lnTo>
                    <a:pt x="0" y="438155"/>
                  </a:lnTo>
                  <a:lnTo>
                    <a:pt x="828835" y="0"/>
                  </a:lnTo>
                  <a:lnTo>
                    <a:pt x="164355" y="661373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bject 83"/>
            <p:cNvSpPr/>
            <p:nvPr/>
          </p:nvSpPr>
          <p:spPr>
            <a:xfrm>
              <a:off x="3165480" y="2501280"/>
              <a:ext cx="912960" cy="438120"/>
            </a:xfrm>
            <a:custGeom>
              <a:avLst/>
              <a:gdLst/>
              <a:ahLst/>
              <a:rect l="l" t="t" r="r" b="b"/>
              <a:pathLst>
                <a:path w="913228" h="438155">
                  <a:moveTo>
                    <a:pt x="913228" y="0"/>
                  </a:moveTo>
                  <a:lnTo>
                    <a:pt x="0" y="212044"/>
                  </a:lnTo>
                  <a:lnTo>
                    <a:pt x="2968" y="224444"/>
                  </a:lnTo>
                  <a:lnTo>
                    <a:pt x="6103" y="236798"/>
                  </a:lnTo>
                  <a:lnTo>
                    <a:pt x="16507" y="273566"/>
                  </a:lnTo>
                  <a:lnTo>
                    <a:pt x="28392" y="309860"/>
                  </a:lnTo>
                  <a:lnTo>
                    <a:pt x="41744" y="345635"/>
                  </a:lnTo>
                  <a:lnTo>
                    <a:pt x="56546" y="380846"/>
                  </a:lnTo>
                  <a:lnTo>
                    <a:pt x="72781" y="415447"/>
                  </a:lnTo>
                  <a:lnTo>
                    <a:pt x="84393" y="438155"/>
                  </a:lnTo>
                  <a:lnTo>
                    <a:pt x="913228" y="0"/>
                  </a:lnTo>
                  <a:close/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bject 84"/>
            <p:cNvSpPr/>
            <p:nvPr/>
          </p:nvSpPr>
          <p:spPr>
            <a:xfrm>
              <a:off x="3165480" y="2501280"/>
              <a:ext cx="912960" cy="438120"/>
            </a:xfrm>
            <a:custGeom>
              <a:avLst/>
              <a:gdLst/>
              <a:ahLst/>
              <a:rect l="l" t="t" r="r" b="b"/>
              <a:pathLst>
                <a:path w="913228" h="438155">
                  <a:moveTo>
                    <a:pt x="84393" y="438155"/>
                  </a:moveTo>
                  <a:lnTo>
                    <a:pt x="67211" y="403984"/>
                  </a:lnTo>
                  <a:lnTo>
                    <a:pt x="51452" y="369175"/>
                  </a:lnTo>
                  <a:lnTo>
                    <a:pt x="37131" y="333771"/>
                  </a:lnTo>
                  <a:lnTo>
                    <a:pt x="24266" y="297818"/>
                  </a:lnTo>
                  <a:lnTo>
                    <a:pt x="12873" y="261361"/>
                  </a:lnTo>
                  <a:lnTo>
                    <a:pt x="2968" y="224444"/>
                  </a:lnTo>
                  <a:lnTo>
                    <a:pt x="0" y="212044"/>
                  </a:lnTo>
                  <a:lnTo>
                    <a:pt x="913228" y="0"/>
                  </a:lnTo>
                  <a:lnTo>
                    <a:pt x="84393" y="438155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bject 85"/>
            <p:cNvSpPr/>
            <p:nvPr/>
          </p:nvSpPr>
          <p:spPr>
            <a:xfrm>
              <a:off x="3141000" y="2500560"/>
              <a:ext cx="937440" cy="201600"/>
            </a:xfrm>
            <a:custGeom>
              <a:avLst/>
              <a:gdLst/>
              <a:ahLst/>
              <a:rect l="l" t="t" r="r" b="b"/>
              <a:pathLst>
                <a:path w="937522" h="201894">
                  <a:moveTo>
                    <a:pt x="0" y="0"/>
                  </a:moveTo>
                  <a:lnTo>
                    <a:pt x="758" y="38156"/>
                  </a:lnTo>
                  <a:lnTo>
                    <a:pt x="3067" y="76226"/>
                  </a:lnTo>
                  <a:lnTo>
                    <a:pt x="6921" y="114162"/>
                  </a:lnTo>
                  <a:lnTo>
                    <a:pt x="12316" y="151917"/>
                  </a:lnTo>
                  <a:lnTo>
                    <a:pt x="19246" y="189444"/>
                  </a:lnTo>
                  <a:lnTo>
                    <a:pt x="21897" y="201894"/>
                  </a:lnTo>
                  <a:lnTo>
                    <a:pt x="937522" y="4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bject 86"/>
            <p:cNvSpPr/>
            <p:nvPr/>
          </p:nvSpPr>
          <p:spPr>
            <a:xfrm>
              <a:off x="3141000" y="2500560"/>
              <a:ext cx="937440" cy="201600"/>
            </a:xfrm>
            <a:custGeom>
              <a:avLst/>
              <a:gdLst/>
              <a:ahLst/>
              <a:rect l="l" t="t" r="r" b="b"/>
              <a:pathLst>
                <a:path w="937523" h="201894">
                  <a:moveTo>
                    <a:pt x="21897" y="201894"/>
                  </a:moveTo>
                  <a:lnTo>
                    <a:pt x="14455" y="164454"/>
                  </a:lnTo>
                  <a:lnTo>
                    <a:pt x="8548" y="126770"/>
                  </a:lnTo>
                  <a:lnTo>
                    <a:pt x="4180" y="88889"/>
                  </a:lnTo>
                  <a:lnTo>
                    <a:pt x="1355" y="50858"/>
                  </a:lnTo>
                  <a:lnTo>
                    <a:pt x="80" y="12725"/>
                  </a:lnTo>
                  <a:lnTo>
                    <a:pt x="0" y="0"/>
                  </a:lnTo>
                  <a:lnTo>
                    <a:pt x="937523" y="451"/>
                  </a:lnTo>
                  <a:lnTo>
                    <a:pt x="21897" y="201894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bject 87"/>
            <p:cNvSpPr/>
            <p:nvPr/>
          </p:nvSpPr>
          <p:spPr>
            <a:xfrm>
              <a:off x="3141000" y="1563480"/>
              <a:ext cx="937440" cy="937440"/>
            </a:xfrm>
            <a:custGeom>
              <a:avLst/>
              <a:gdLst/>
              <a:ahLst/>
              <a:rect l="l" t="t" r="r" b="b"/>
              <a:pathLst>
                <a:path w="937472" h="937522">
                  <a:moveTo>
                    <a:pt x="937472" y="0"/>
                  </a:moveTo>
                  <a:lnTo>
                    <a:pt x="861133" y="3064"/>
                  </a:lnTo>
                  <a:lnTo>
                    <a:pt x="786470" y="12101"/>
                  </a:lnTo>
                  <a:lnTo>
                    <a:pt x="713719" y="26874"/>
                  </a:lnTo>
                  <a:lnTo>
                    <a:pt x="643119" y="47149"/>
                  </a:lnTo>
                  <a:lnTo>
                    <a:pt x="574908" y="72691"/>
                  </a:lnTo>
                  <a:lnTo>
                    <a:pt x="509322" y="103263"/>
                  </a:lnTo>
                  <a:lnTo>
                    <a:pt x="446601" y="138631"/>
                  </a:lnTo>
                  <a:lnTo>
                    <a:pt x="386981" y="178560"/>
                  </a:lnTo>
                  <a:lnTo>
                    <a:pt x="330700" y="222814"/>
                  </a:lnTo>
                  <a:lnTo>
                    <a:pt x="277996" y="271158"/>
                  </a:lnTo>
                  <a:lnTo>
                    <a:pt x="229108" y="323356"/>
                  </a:lnTo>
                  <a:lnTo>
                    <a:pt x="184271" y="379174"/>
                  </a:lnTo>
                  <a:lnTo>
                    <a:pt x="143725" y="438375"/>
                  </a:lnTo>
                  <a:lnTo>
                    <a:pt x="107707" y="500726"/>
                  </a:lnTo>
                  <a:lnTo>
                    <a:pt x="76455" y="565990"/>
                  </a:lnTo>
                  <a:lnTo>
                    <a:pt x="50206" y="633933"/>
                  </a:lnTo>
                  <a:lnTo>
                    <a:pt x="29198" y="704318"/>
                  </a:lnTo>
                  <a:lnTo>
                    <a:pt x="13669" y="776911"/>
                  </a:lnTo>
                  <a:lnTo>
                    <a:pt x="3857" y="851476"/>
                  </a:lnTo>
                  <a:lnTo>
                    <a:pt x="0" y="927779"/>
                  </a:lnTo>
                  <a:lnTo>
                    <a:pt x="937470" y="937522"/>
                  </a:lnTo>
                  <a:lnTo>
                    <a:pt x="937472" y="0"/>
                  </a:lnTo>
                  <a:close/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bject 88"/>
            <p:cNvSpPr/>
            <p:nvPr/>
          </p:nvSpPr>
          <p:spPr>
            <a:xfrm>
              <a:off x="3141000" y="1563480"/>
              <a:ext cx="937440" cy="937440"/>
            </a:xfrm>
            <a:custGeom>
              <a:avLst/>
              <a:gdLst/>
              <a:ahLst/>
              <a:rect l="l" t="t" r="r" b="b"/>
              <a:pathLst>
                <a:path w="937472" h="937522">
                  <a:moveTo>
                    <a:pt x="0" y="927779"/>
                  </a:moveTo>
                  <a:lnTo>
                    <a:pt x="3857" y="851476"/>
                  </a:lnTo>
                  <a:lnTo>
                    <a:pt x="13669" y="776911"/>
                  </a:lnTo>
                  <a:lnTo>
                    <a:pt x="29198" y="704318"/>
                  </a:lnTo>
                  <a:lnTo>
                    <a:pt x="50206" y="633933"/>
                  </a:lnTo>
                  <a:lnTo>
                    <a:pt x="76455" y="565990"/>
                  </a:lnTo>
                  <a:lnTo>
                    <a:pt x="107707" y="500726"/>
                  </a:lnTo>
                  <a:lnTo>
                    <a:pt x="143725" y="438376"/>
                  </a:lnTo>
                  <a:lnTo>
                    <a:pt x="184271" y="379174"/>
                  </a:lnTo>
                  <a:lnTo>
                    <a:pt x="229108" y="323356"/>
                  </a:lnTo>
                  <a:lnTo>
                    <a:pt x="277997" y="271158"/>
                  </a:lnTo>
                  <a:lnTo>
                    <a:pt x="330700" y="222814"/>
                  </a:lnTo>
                  <a:lnTo>
                    <a:pt x="386981" y="178560"/>
                  </a:lnTo>
                  <a:lnTo>
                    <a:pt x="446601" y="138631"/>
                  </a:lnTo>
                  <a:lnTo>
                    <a:pt x="509323" y="103263"/>
                  </a:lnTo>
                  <a:lnTo>
                    <a:pt x="574908" y="72691"/>
                  </a:lnTo>
                  <a:lnTo>
                    <a:pt x="643120" y="47149"/>
                  </a:lnTo>
                  <a:lnTo>
                    <a:pt x="713719" y="26874"/>
                  </a:lnTo>
                  <a:lnTo>
                    <a:pt x="786470" y="12101"/>
                  </a:lnTo>
                  <a:lnTo>
                    <a:pt x="861133" y="3064"/>
                  </a:lnTo>
                  <a:lnTo>
                    <a:pt x="937472" y="0"/>
                  </a:lnTo>
                  <a:lnTo>
                    <a:pt x="937471" y="937522"/>
                  </a:lnTo>
                  <a:lnTo>
                    <a:pt x="0" y="927779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bject 89"/>
            <p:cNvSpPr/>
            <p:nvPr/>
          </p:nvSpPr>
          <p:spPr>
            <a:xfrm>
              <a:off x="4496760" y="1831320"/>
              <a:ext cx="145800" cy="1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12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bject 90"/>
            <p:cNvSpPr/>
            <p:nvPr/>
          </p:nvSpPr>
          <p:spPr>
            <a:xfrm>
              <a:off x="4687920" y="2543040"/>
              <a:ext cx="23004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12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N/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bject 91"/>
            <p:cNvSpPr/>
            <p:nvPr/>
          </p:nvSpPr>
          <p:spPr>
            <a:xfrm>
              <a:off x="4560840" y="2936880"/>
              <a:ext cx="16020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12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N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bject 92"/>
            <p:cNvSpPr/>
            <p:nvPr/>
          </p:nvSpPr>
          <p:spPr>
            <a:xfrm>
              <a:off x="4282920" y="3139560"/>
              <a:ext cx="155520" cy="1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12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bject 93"/>
            <p:cNvSpPr/>
            <p:nvPr/>
          </p:nvSpPr>
          <p:spPr>
            <a:xfrm>
              <a:off x="4014360" y="3203280"/>
              <a:ext cx="149760" cy="1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12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E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bject 94"/>
            <p:cNvSpPr/>
            <p:nvPr/>
          </p:nvSpPr>
          <p:spPr>
            <a:xfrm>
              <a:off x="3443400" y="3444840"/>
              <a:ext cx="43632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12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NO, 5 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bject 95"/>
            <p:cNvSpPr/>
            <p:nvPr/>
          </p:nvSpPr>
          <p:spPr>
            <a:xfrm>
              <a:off x="3531600" y="3038040"/>
              <a:ext cx="165600" cy="1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12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bject 96"/>
            <p:cNvSpPr/>
            <p:nvPr/>
          </p:nvSpPr>
          <p:spPr>
            <a:xfrm>
              <a:off x="3367080" y="2873520"/>
              <a:ext cx="17604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12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R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bject 97"/>
            <p:cNvSpPr/>
            <p:nvPr/>
          </p:nvSpPr>
          <p:spPr>
            <a:xfrm>
              <a:off x="2986200" y="2759040"/>
              <a:ext cx="16956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12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D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bject 98"/>
            <p:cNvSpPr/>
            <p:nvPr/>
          </p:nvSpPr>
          <p:spPr>
            <a:xfrm>
              <a:off x="3201840" y="2505240"/>
              <a:ext cx="11556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12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F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bject 99"/>
            <p:cNvSpPr/>
            <p:nvPr/>
          </p:nvSpPr>
          <p:spPr>
            <a:xfrm>
              <a:off x="3341520" y="2035080"/>
              <a:ext cx="44100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12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Top 11+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bject 100"/>
            <p:cNvSpPr/>
            <p:nvPr/>
          </p:nvSpPr>
          <p:spPr>
            <a:xfrm>
              <a:off x="2782440" y="1240920"/>
              <a:ext cx="2592000" cy="2520360"/>
            </a:xfrm>
            <a:custGeom>
              <a:avLst/>
              <a:gdLst/>
              <a:ahLst/>
              <a:rect l="l" t="t" r="r" b="b"/>
              <a:pathLst>
                <a:path w="2592286" h="2520278">
                  <a:moveTo>
                    <a:pt x="0" y="0"/>
                  </a:moveTo>
                  <a:lnTo>
                    <a:pt x="2592286" y="0"/>
                  </a:lnTo>
                  <a:lnTo>
                    <a:pt x="2592286" y="2520278"/>
                  </a:lnTo>
                  <a:lnTo>
                    <a:pt x="0" y="252027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4320">
              <a:solidFill>
                <a:srgbClr val="92929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bject 101"/>
            <p:cNvSpPr/>
            <p:nvPr/>
          </p:nvSpPr>
          <p:spPr>
            <a:xfrm>
              <a:off x="3006360" y="754200"/>
              <a:ext cx="237168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12600"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6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Ārvalstu tiešās investīcijas Latvijā, 201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bject 102"/>
            <p:cNvSpPr/>
            <p:nvPr/>
          </p:nvSpPr>
          <p:spPr>
            <a:xfrm>
              <a:off x="5518800" y="5082120"/>
              <a:ext cx="59040" cy="335520"/>
            </a:xfrm>
            <a:custGeom>
              <a:avLst/>
              <a:gdLst/>
              <a:ahLst/>
              <a:rect l="l" t="t" r="r" b="b"/>
              <a:pathLst>
                <a:path w="59125" h="335540">
                  <a:moveTo>
                    <a:pt x="0" y="335540"/>
                  </a:moveTo>
                  <a:lnTo>
                    <a:pt x="59125" y="0"/>
                  </a:lnTo>
                </a:path>
              </a:pathLst>
            </a:custGeom>
            <a:noFill/>
            <a:ln w="12600">
              <a:solidFill>
                <a:srgbClr val="ce1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bject 103"/>
            <p:cNvSpPr/>
            <p:nvPr/>
          </p:nvSpPr>
          <p:spPr>
            <a:xfrm>
              <a:off x="5506560" y="5057640"/>
              <a:ext cx="115920" cy="121680"/>
            </a:xfrm>
            <a:custGeom>
              <a:avLst/>
              <a:gdLst/>
              <a:ahLst/>
              <a:rect l="l" t="t" r="r" b="b"/>
              <a:pathLst>
                <a:path w="116118" h="121923">
                  <a:moveTo>
                    <a:pt x="93925" y="49644"/>
                  </a:moveTo>
                  <a:lnTo>
                    <a:pt x="66848" y="49644"/>
                  </a:lnTo>
                  <a:lnTo>
                    <a:pt x="92290" y="118558"/>
                  </a:lnTo>
                  <a:lnTo>
                    <a:pt x="99593" y="121923"/>
                  </a:lnTo>
                  <a:lnTo>
                    <a:pt x="112754" y="117064"/>
                  </a:lnTo>
                  <a:lnTo>
                    <a:pt x="116118" y="109761"/>
                  </a:lnTo>
                  <a:lnTo>
                    <a:pt x="93925" y="49644"/>
                  </a:lnTo>
                  <a:close/>
                </a:path>
                <a:path w="116118" h="121923">
                  <a:moveTo>
                    <a:pt x="75598" y="0"/>
                  </a:moveTo>
                  <a:lnTo>
                    <a:pt x="0" y="89300"/>
                  </a:lnTo>
                  <a:lnTo>
                    <a:pt x="665" y="97313"/>
                  </a:lnTo>
                  <a:lnTo>
                    <a:pt x="11371" y="106377"/>
                  </a:lnTo>
                  <a:lnTo>
                    <a:pt x="19385" y="105711"/>
                  </a:lnTo>
                  <a:lnTo>
                    <a:pt x="66848" y="49644"/>
                  </a:lnTo>
                  <a:lnTo>
                    <a:pt x="93925" y="49644"/>
                  </a:lnTo>
                  <a:lnTo>
                    <a:pt x="75598" y="0"/>
                  </a:lnTo>
                  <a:close/>
                </a:path>
              </a:pathLst>
            </a:custGeom>
            <a:solidFill>
              <a:srgbClr val="ce1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bject 104"/>
            <p:cNvSpPr/>
            <p:nvPr/>
          </p:nvSpPr>
          <p:spPr>
            <a:xfrm>
              <a:off x="7966440" y="5082840"/>
              <a:ext cx="360" cy="263520"/>
            </a:xfrm>
            <a:custGeom>
              <a:avLst/>
              <a:gdLst/>
              <a:ahLst/>
              <a:rect l="l" t="t" r="r" b="b"/>
              <a:pathLst>
                <a:path w="0" h="263720">
                  <a:moveTo>
                    <a:pt x="0" y="263720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ce1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bject 105"/>
            <p:cNvSpPr/>
            <p:nvPr/>
          </p:nvSpPr>
          <p:spPr>
            <a:xfrm>
              <a:off x="7907760" y="5057640"/>
              <a:ext cx="117720" cy="115920"/>
            </a:xfrm>
            <a:custGeom>
              <a:avLst/>
              <a:gdLst/>
              <a:ahLst/>
              <a:rect l="l" t="t" r="r" b="b"/>
              <a:pathLst>
                <a:path w="117908" h="115908">
                  <a:moveTo>
                    <a:pt x="58953" y="0"/>
                  </a:moveTo>
                  <a:lnTo>
                    <a:pt x="0" y="101064"/>
                  </a:lnTo>
                  <a:lnTo>
                    <a:pt x="2045" y="108840"/>
                  </a:lnTo>
                  <a:lnTo>
                    <a:pt x="14163" y="115908"/>
                  </a:lnTo>
                  <a:lnTo>
                    <a:pt x="21939" y="113862"/>
                  </a:lnTo>
                  <a:lnTo>
                    <a:pt x="58953" y="50409"/>
                  </a:lnTo>
                  <a:lnTo>
                    <a:pt x="88359" y="50409"/>
                  </a:lnTo>
                  <a:lnTo>
                    <a:pt x="58953" y="0"/>
                  </a:lnTo>
                  <a:close/>
                </a:path>
                <a:path w="117908" h="115908">
                  <a:moveTo>
                    <a:pt x="88359" y="50409"/>
                  </a:moveTo>
                  <a:lnTo>
                    <a:pt x="58953" y="50409"/>
                  </a:lnTo>
                  <a:lnTo>
                    <a:pt x="95967" y="113862"/>
                  </a:lnTo>
                  <a:lnTo>
                    <a:pt x="103743" y="115908"/>
                  </a:lnTo>
                  <a:lnTo>
                    <a:pt x="115860" y="108840"/>
                  </a:lnTo>
                  <a:lnTo>
                    <a:pt x="117908" y="101064"/>
                  </a:lnTo>
                  <a:lnTo>
                    <a:pt x="88359" y="50409"/>
                  </a:lnTo>
                  <a:close/>
                </a:path>
              </a:pathLst>
            </a:custGeom>
            <a:solidFill>
              <a:srgbClr val="ce1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bject 106"/>
            <p:cNvSpPr/>
            <p:nvPr/>
          </p:nvSpPr>
          <p:spPr>
            <a:xfrm>
              <a:off x="196920" y="1357200"/>
              <a:ext cx="2279520" cy="12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291960" indent="-27936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297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Norvēģijas tiešās  investīcijas  Latvijā ir patstāvīgi pieaug, 2012 gadā sasniedzot  </a:t>
              </a:r>
              <a:r>
                <a:rPr b="1" lang="en-US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386 million LVL </a:t>
              </a:r>
              <a:r>
                <a:rPr b="0" lang="lv-LV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vai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4391 mil. NOK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bject 107"/>
            <p:cNvSpPr/>
            <p:nvPr/>
          </p:nvSpPr>
          <p:spPr>
            <a:xfrm>
              <a:off x="196920" y="2996280"/>
              <a:ext cx="2363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298440" indent="-28584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297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Lielākais pieaugums bij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bject 108"/>
            <p:cNvSpPr/>
            <p:nvPr/>
          </p:nvSpPr>
          <p:spPr>
            <a:xfrm>
              <a:off x="476280" y="3210120"/>
              <a:ext cx="204444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12600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2010 ­‐2011, </a:t>
              </a:r>
              <a:r>
                <a:rPr b="0" lang="lv-LV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kad investīciju skaits dubultojā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bject 109"/>
            <p:cNvSpPr/>
            <p:nvPr/>
          </p:nvSpPr>
          <p:spPr>
            <a:xfrm>
              <a:off x="196920" y="3997440"/>
              <a:ext cx="201276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291960" indent="-279360">
                <a:lnSpc>
                  <a:spcPct val="101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297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Norvēģija ir  5. lielākais investors Latvijā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bject 110"/>
            <p:cNvSpPr/>
            <p:nvPr/>
          </p:nvSpPr>
          <p:spPr>
            <a:xfrm>
              <a:off x="196920" y="4802400"/>
              <a:ext cx="2352600" cy="86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291960" indent="-279360">
                <a:lnSpc>
                  <a:spcPct val="99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297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Latvijas investīcijas  Norvēģijā 2012 gadā bija </a:t>
              </a:r>
              <a:r>
                <a:rPr b="1" lang="en-US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79.60 mil. NOK </a:t>
              </a:r>
              <a:r>
                <a:rPr b="0" lang="lv-LV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(55 reizes mazāk kā investīcijas Latvijā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object 60"/>
          <p:cNvSpPr/>
          <p:nvPr/>
        </p:nvSpPr>
        <p:spPr>
          <a:xfrm>
            <a:off x="4551480" y="5505480"/>
            <a:ext cx="1800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  <a:ea typeface="Calibri"/>
              </a:rPr>
              <a:t>Pieaugums 100% apmēr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4"/>
          <p:cNvSpPr/>
          <p:nvPr/>
        </p:nvSpPr>
        <p:spPr>
          <a:xfrm>
            <a:off x="324000" y="189000"/>
            <a:ext cx="8742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a50021"/>
                </a:solidFill>
                <a:latin typeface="Arial"/>
              </a:rPr>
              <a:t>Norvēģijas tiešās investīcijas Latvijā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bject 57"/>
          <p:cNvSpPr/>
          <p:nvPr/>
        </p:nvSpPr>
        <p:spPr>
          <a:xfrm>
            <a:off x="490680" y="6211800"/>
            <a:ext cx="30765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200" spc="-1" strike="noStrike">
                <a:solidFill>
                  <a:srgbClr val="000000"/>
                </a:solidFill>
                <a:latin typeface="Calibri"/>
                <a:ea typeface="Calibri"/>
              </a:rPr>
              <a:t>Avots:  </a:t>
            </a:r>
            <a:r>
              <a:rPr b="0" lang="en-US" sz="11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Embassy of Norway in Latvi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3"/>
          <p:cNvSpPr/>
          <p:nvPr/>
        </p:nvSpPr>
        <p:spPr>
          <a:xfrm>
            <a:off x="880920" y="1828800"/>
            <a:ext cx="68742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No </a:t>
            </a: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329 </a:t>
            </a:r>
            <a:r>
              <a:rPr b="0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oficiāli reģistrētajām Norvēģijas kompānijām aktīvi darbojas</a:t>
            </a: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59</a:t>
            </a:r>
            <a:r>
              <a:rPr b="1" lang="en-CA" sz="1400" spc="-1" strike="noStrike">
                <a:solidFill>
                  <a:srgbClr val="000000"/>
                </a:solidFill>
                <a:latin typeface="Arial Bold"/>
                <a:ea typeface="Arial Bold"/>
              </a:rPr>
              <a:t>%</a:t>
            </a:r>
            <a:r>
              <a:rPr b="1" lang="lv-LV" sz="1400" spc="-1" strike="noStrike">
                <a:solidFill>
                  <a:srgbClr val="000000"/>
                </a:solidFill>
                <a:latin typeface="Arial Bold"/>
                <a:ea typeface="Arial Bold"/>
              </a:rPr>
              <a:t> uzņēmum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4"/>
          <p:cNvSpPr/>
          <p:nvPr/>
        </p:nvSpPr>
        <p:spPr>
          <a:xfrm>
            <a:off x="957240" y="2193840"/>
            <a:ext cx="7958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Kopējais norvēģiem  Latvijā piederošo kompāniju apgrozījums 2012 .gadā bija </a:t>
            </a:r>
            <a:r>
              <a:rPr b="1" lang="lv-LV" sz="1400" spc="-1" strike="noStrike">
                <a:solidFill>
                  <a:srgbClr val="000000"/>
                </a:solidFill>
                <a:latin typeface="Arial Bold"/>
                <a:ea typeface="Arial"/>
              </a:rPr>
              <a:t>1060 </a:t>
            </a:r>
            <a:r>
              <a:rPr b="1" lang="en-CA" sz="1400" spc="-1" strike="noStrike">
                <a:solidFill>
                  <a:srgbClr val="000000"/>
                </a:solidFill>
                <a:latin typeface="Arial Bold"/>
                <a:ea typeface="Arial Bold"/>
              </a:rPr>
              <a:t>mil</a:t>
            </a:r>
            <a:r>
              <a:rPr b="1" lang="lv-LV" sz="1400" spc="-1" strike="noStrike">
                <a:solidFill>
                  <a:srgbClr val="000000"/>
                </a:solidFill>
                <a:latin typeface="Arial Bold"/>
                <a:ea typeface="Arial Bold"/>
              </a:rPr>
              <a:t>j. EU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5"/>
          <p:cNvSpPr/>
          <p:nvPr/>
        </p:nvSpPr>
        <p:spPr>
          <a:xfrm>
            <a:off x="912240" y="2630520"/>
            <a:ext cx="4443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300" spc="-1" strike="noStrike">
                <a:solidFill>
                  <a:srgbClr val="000000"/>
                </a:solidFill>
                <a:latin typeface="Arial"/>
                <a:ea typeface="Arial"/>
              </a:rPr>
              <a:t>Uzņēmumu apgrozījuma kāpums  </a:t>
            </a:r>
            <a:r>
              <a:rPr b="0" lang="en-CA" sz="1300" spc="-1" strike="noStrike">
                <a:solidFill>
                  <a:srgbClr val="000000"/>
                </a:solidFill>
                <a:latin typeface="Arial"/>
                <a:ea typeface="Arial"/>
              </a:rPr>
              <a:t>2012</a:t>
            </a:r>
            <a:r>
              <a:rPr b="0" lang="lv-LV" sz="1300" spc="-1" strike="noStrike">
                <a:solidFill>
                  <a:srgbClr val="000000"/>
                </a:solidFill>
                <a:latin typeface="Arial"/>
                <a:ea typeface="Arial"/>
              </a:rPr>
              <a:t>.gadā bija </a:t>
            </a:r>
            <a:r>
              <a:rPr b="0" lang="en-CA" sz="1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CA" sz="1300" spc="-1" strike="noStrike">
                <a:solidFill>
                  <a:srgbClr val="000000"/>
                </a:solidFill>
                <a:latin typeface="Arial Bold"/>
                <a:ea typeface="Arial Bold"/>
              </a:rPr>
              <a:t>26%</a:t>
            </a:r>
            <a:br>
              <a:rPr sz="1400"/>
            </a:br>
            <a:r>
              <a:rPr b="0" lang="lv-LV" sz="1300" spc="-1" strike="noStrike">
                <a:solidFill>
                  <a:srgbClr val="000000"/>
                </a:solidFill>
                <a:latin typeface="Arial"/>
                <a:ea typeface="Arial"/>
              </a:rPr>
              <a:t>Norvēģijas kompānijas Latvijā nodarbina </a:t>
            </a:r>
            <a:r>
              <a:rPr b="1" lang="en-CA" sz="1300" spc="-1" strike="noStrike">
                <a:solidFill>
                  <a:srgbClr val="000000"/>
                </a:solidFill>
                <a:latin typeface="Arial Bold"/>
                <a:ea typeface="Arial Bold"/>
              </a:rPr>
              <a:t>5794 </a:t>
            </a:r>
            <a:r>
              <a:rPr b="1" lang="lv-LV" sz="1300" spc="-1" strike="noStrike">
                <a:solidFill>
                  <a:srgbClr val="000000"/>
                </a:solidFill>
                <a:latin typeface="Arial Bold"/>
                <a:ea typeface="Arial Bold"/>
              </a:rPr>
              <a:t>darbinieku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16"/>
          <p:cNvSpPr/>
          <p:nvPr/>
        </p:nvSpPr>
        <p:spPr>
          <a:xfrm>
            <a:off x="944640" y="3581280"/>
            <a:ext cx="74372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300" spc="-1" strike="noStrike">
                <a:solidFill>
                  <a:srgbClr val="000000"/>
                </a:solidFill>
                <a:latin typeface="Arial"/>
                <a:ea typeface="Arial Bold"/>
              </a:rPr>
              <a:t>68% </a:t>
            </a:r>
            <a:r>
              <a:rPr b="1" lang="lv-LV" sz="1300" spc="-1" strike="noStrike">
                <a:solidFill>
                  <a:srgbClr val="000000"/>
                </a:solidFill>
                <a:latin typeface="Arial"/>
                <a:ea typeface="Arial Bold"/>
              </a:rPr>
              <a:t>no visām kompānijām atrodas Rīgā </a:t>
            </a:r>
            <a:r>
              <a:rPr b="0" lang="lv-LV" sz="1300" spc="-1" strike="noStrike">
                <a:solidFill>
                  <a:srgbClr val="000000"/>
                </a:solidFill>
                <a:latin typeface="Arial"/>
                <a:ea typeface="Arial"/>
              </a:rPr>
              <a:t>vai tuvumā,  </a:t>
            </a:r>
            <a:r>
              <a:rPr b="0" lang="lv-LV" sz="1300" spc="-1" strike="noStrike">
                <a:solidFill>
                  <a:srgbClr val="000000"/>
                </a:solidFill>
                <a:latin typeface="Arial"/>
              </a:rPr>
              <a:t>citas iecienītas vietas ir</a:t>
            </a:r>
            <a:r>
              <a:rPr b="0" lang="en-CA" sz="1300" spc="-1" strike="noStrike">
                <a:solidFill>
                  <a:srgbClr val="000000"/>
                </a:solidFill>
                <a:latin typeface="Arial"/>
                <a:ea typeface="Arial"/>
              </a:rPr>
              <a:t>: Saldus, Sigulda, Liepaja,</a:t>
            </a:r>
            <a:r>
              <a:rPr b="0" lang="lv-LV" sz="1300" spc="-1" strike="noStrike">
                <a:solidFill>
                  <a:srgbClr val="000000"/>
                </a:solidFill>
                <a:latin typeface="Arial"/>
                <a:ea typeface="Arial"/>
              </a:rPr>
              <a:t> Daugavpils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625320" y="915840"/>
            <a:ext cx="2806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a50021"/>
                </a:solidFill>
                <a:latin typeface="Arial"/>
              </a:rPr>
              <a:t>Interesanti fak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4"/>
          <p:cNvSpPr/>
          <p:nvPr/>
        </p:nvSpPr>
        <p:spPr>
          <a:xfrm>
            <a:off x="324000" y="189000"/>
            <a:ext cx="8742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a50021"/>
                </a:solidFill>
                <a:latin typeface="Arial"/>
              </a:rPr>
              <a:t>Norvēģijas tiešās investīcijas Latvijā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bject 57"/>
          <p:cNvSpPr/>
          <p:nvPr/>
        </p:nvSpPr>
        <p:spPr>
          <a:xfrm>
            <a:off x="490680" y="6211800"/>
            <a:ext cx="30765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200" spc="-1" strike="noStrike">
                <a:solidFill>
                  <a:srgbClr val="000000"/>
                </a:solidFill>
                <a:latin typeface="Calibri"/>
                <a:ea typeface="Calibri"/>
              </a:rPr>
              <a:t>Avots:  </a:t>
            </a:r>
            <a:r>
              <a:rPr b="0" lang="en-US" sz="11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Embassy of Norway in Latvi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625320" y="915840"/>
            <a:ext cx="2806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a50021"/>
                </a:solidFill>
                <a:latin typeface="Arial"/>
              </a:rPr>
              <a:t>Noz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5810400" y="1935000"/>
            <a:ext cx="3209760" cy="2843280"/>
          </a:xfrm>
          <a:prstGeom prst="rect">
            <a:avLst/>
          </a:prstGeom>
          <a:ln w="0">
            <a:noFill/>
          </a:ln>
        </p:spPr>
      </p:pic>
      <p:sp>
        <p:nvSpPr>
          <p:cNvPr id="204" name="TextBox 3"/>
          <p:cNvSpPr/>
          <p:nvPr/>
        </p:nvSpPr>
        <p:spPr>
          <a:xfrm>
            <a:off x="5735880" y="1341360"/>
            <a:ext cx="30715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 Bold"/>
                <a:ea typeface="Arial Bold"/>
              </a:rPr>
              <a:t>Sadalījums pēc apgrozījuma </a:t>
            </a:r>
            <a:r>
              <a:rPr b="1" lang="en-CA" sz="1400" spc="-1" strike="noStrike">
                <a:solidFill>
                  <a:srgbClr val="000000"/>
                </a:solidFill>
                <a:latin typeface="Arial Bold"/>
                <a:ea typeface="Arial Bold"/>
              </a:rPr>
              <a:t>(201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1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11"/>
          <p:cNvGrpSpPr/>
          <p:nvPr/>
        </p:nvGrpSpPr>
        <p:grpSpPr>
          <a:xfrm>
            <a:off x="176040" y="1752480"/>
            <a:ext cx="5766120" cy="3358440"/>
            <a:chOff x="176040" y="1752480"/>
            <a:chExt cx="5766120" cy="3358440"/>
          </a:xfrm>
        </p:grpSpPr>
        <p:sp>
          <p:nvSpPr>
            <p:cNvPr id="206" name="TextBox 29"/>
            <p:cNvSpPr/>
            <p:nvPr/>
          </p:nvSpPr>
          <p:spPr>
            <a:xfrm>
              <a:off x="176040" y="1752480"/>
              <a:ext cx="5766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ts val="11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• </a:t>
              </a:r>
              <a:r>
                <a:rPr b="1" lang="en-CA" sz="1100" spc="-1" strike="noStrike">
                  <a:solidFill>
                    <a:srgbClr val="000000"/>
                  </a:solidFill>
                  <a:latin typeface="Arial Bold"/>
                  <a:ea typeface="Arial Bold"/>
                </a:rPr>
                <a:t>  </a:t>
              </a:r>
              <a:r>
                <a:rPr b="1" lang="lv-LV" sz="1400" spc="-1" strike="noStrike">
                  <a:solidFill>
                    <a:srgbClr val="000000"/>
                  </a:solidFill>
                  <a:latin typeface="Arial"/>
                  <a:ea typeface="Arial Bold"/>
                </a:rPr>
                <a:t>Mazumtirdzniecība un pakalpojumu nozares veido </a:t>
              </a:r>
              <a:r>
                <a:rPr b="1" lang="en-CA" sz="1400" spc="-1" strike="noStrike">
                  <a:solidFill>
                    <a:srgbClr val="000000"/>
                  </a:solidFill>
                  <a:latin typeface="Arial"/>
                  <a:ea typeface="Arial Bold"/>
                </a:rPr>
                <a:t>92%</a:t>
              </a:r>
              <a:r>
                <a:rPr b="0" lang="en-CA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lv-LV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rvēģiem piederošo  kompāniju apgrozījum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Box 30"/>
            <p:cNvSpPr/>
            <p:nvPr/>
          </p:nvSpPr>
          <p:spPr>
            <a:xfrm>
              <a:off x="176040" y="2219040"/>
              <a:ext cx="5529600" cy="65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ts val="1298"/>
                </a:lnSpc>
                <a:tabLst>
                  <a:tab algn="l" pos="0"/>
                  <a:tab algn="l" pos="152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•   </a:t>
              </a:r>
              <a:r>
                <a:rPr b="0" lang="lv-LV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kalpojumu sektorā (pēc apgrozījuma) dominējošie ir </a:t>
              </a:r>
              <a:r>
                <a:rPr b="1" lang="lv-LV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nanšu pakalpojumi  </a:t>
              </a:r>
              <a:r>
                <a:rPr b="0" lang="en-CA" sz="1400" spc="-1" strike="noStrike">
                  <a:solidFill>
                    <a:srgbClr val="000000"/>
                  </a:solidFill>
                  <a:latin typeface="Arial"/>
                  <a:ea typeface="Arial Bold"/>
                </a:rPr>
                <a:t> (DNB, Gjensidige Baltic)</a:t>
              </a:r>
              <a:r>
                <a:rPr b="0" lang="lv-LV" sz="1400" spc="-1" strike="noStrike">
                  <a:solidFill>
                    <a:srgbClr val="000000"/>
                  </a:solidFill>
                  <a:latin typeface="Arial"/>
                  <a:ea typeface="Arial Bold"/>
                </a:rPr>
                <a:t>, </a:t>
              </a:r>
              <a:r>
                <a:rPr b="1" lang="lv-LV" sz="1400" spc="-1" strike="noStrike">
                  <a:solidFill>
                    <a:srgbClr val="000000"/>
                  </a:solidFill>
                  <a:latin typeface="Arial"/>
                  <a:ea typeface="Arial Bold"/>
                </a:rPr>
                <a:t>drukas pakalpojumi </a:t>
              </a:r>
              <a:r>
                <a:rPr b="0" lang="en-CA" sz="1400" spc="-1" strike="noStrike">
                  <a:solidFill>
                    <a:srgbClr val="000000"/>
                  </a:solidFill>
                  <a:latin typeface="Arial"/>
                  <a:ea typeface="Arial Bold"/>
                </a:rPr>
                <a:t>(Livonia print</a:t>
              </a:r>
              <a:r>
                <a:rPr b="1" lang="en-CA" sz="1400" spc="-1" strike="noStrike">
                  <a:solidFill>
                    <a:srgbClr val="000000"/>
                  </a:solidFill>
                  <a:latin typeface="Arial"/>
                  <a:ea typeface="Arial Bold"/>
                </a:rPr>
                <a:t>),</a:t>
              </a:r>
              <a:r>
                <a:rPr b="1" lang="en-CA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lv-LV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iesnīcu un atpūtas pakalpojumi </a:t>
              </a:r>
              <a:r>
                <a:rPr b="0" lang="lv-LV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en-CA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disson Group), </a:t>
              </a:r>
              <a:r>
                <a:rPr b="0" lang="lv-LV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kā arī </a:t>
              </a:r>
              <a:r>
                <a:rPr b="1" lang="lv-LV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kustamo īpašumu pārvaldīša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Box 31"/>
            <p:cNvSpPr/>
            <p:nvPr/>
          </p:nvSpPr>
          <p:spPr>
            <a:xfrm>
              <a:off x="202680" y="3124080"/>
              <a:ext cx="53010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ts val="1199"/>
                </a:lnSpc>
                <a:tabLst>
                  <a:tab algn="l" pos="0"/>
                  <a:tab algn="l" pos="152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•   </a:t>
              </a:r>
              <a:r>
                <a:rPr b="0" lang="lv-LV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i gan tikai </a:t>
              </a:r>
              <a:r>
                <a:rPr b="0" lang="en-CA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8% </a:t>
              </a:r>
              <a:r>
                <a:rPr b="0" lang="lv-LV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uzņēmumi darbojas mazumtirdzniecībā, tie veido</a:t>
              </a:r>
              <a:r>
                <a:rPr b="0" lang="en-CA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CA" sz="1400" spc="-1" strike="noStrike">
                  <a:solidFill>
                    <a:srgbClr val="000000"/>
                  </a:solidFill>
                  <a:latin typeface="Arial"/>
                  <a:ea typeface="Arial Bold"/>
                </a:rPr>
                <a:t>67%</a:t>
              </a:r>
              <a:r>
                <a:rPr b="0" lang="en-CA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lv-LV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 kopējā apgrozījuma . Lielāko daļu no tā veido </a:t>
              </a:r>
              <a:r>
                <a:rPr b="1" lang="en-CA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stow Group </a:t>
              </a:r>
              <a:r>
                <a:rPr b="0" lang="lv-LV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kompānijas , tādas kā iepirkumu centri </a:t>
              </a:r>
              <a:r>
                <a:rPr b="0" lang="en-CA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fa, Dole, Mols,</a:t>
              </a:r>
              <a:r>
                <a:rPr b="0" lang="lv-LV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kā arī tādi spēlētāji </a:t>
              </a:r>
              <a:r>
                <a:rPr b="1" lang="lv-LV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rvesen</a:t>
              </a:r>
              <a:r>
                <a:rPr b="0" lang="lv-LV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un </a:t>
              </a:r>
              <a:r>
                <a:rPr b="1" lang="lv-LV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toil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Box 33"/>
            <p:cNvSpPr/>
            <p:nvPr/>
          </p:nvSpPr>
          <p:spPr>
            <a:xfrm>
              <a:off x="176040" y="4038120"/>
              <a:ext cx="5595840" cy="107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ts val="1199"/>
                </a:lnSpc>
                <a:tabLst>
                  <a:tab algn="l" pos="0"/>
                  <a:tab algn="l" pos="152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•   </a:t>
              </a:r>
              <a:r>
                <a:rPr b="0" lang="lv-LV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žošana , vairumtirdzniecība un lauksaimniecība kopā veido 8 % no kopējā apgrozījuma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199"/>
                </a:lnSpc>
                <a:tabLst>
                  <a:tab algn="l" pos="0"/>
                  <a:tab algn="l" pos="152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199"/>
                </a:lnSpc>
                <a:tabLst>
                  <a:tab algn="l" pos="0"/>
                  <a:tab algn="l" pos="152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rp ražošanas nozarēm dominējošās ir </a:t>
              </a:r>
              <a:r>
                <a:rPr b="1" lang="lv-LV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tālapstrāde, elektrotehnika, plastmasas elementu ražošana, koka karkasa māju un mēbeļu ražošana</a:t>
              </a:r>
              <a:r>
                <a:rPr b="0" lang="lv-LV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250"/>
                </a:lnSpc>
                <a:tabLst>
                  <a:tab algn="l" pos="0"/>
                  <a:tab algn="l" pos="152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4"/>
          <p:cNvSpPr/>
          <p:nvPr/>
        </p:nvSpPr>
        <p:spPr>
          <a:xfrm>
            <a:off x="324000" y="189000"/>
            <a:ext cx="8742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a50021"/>
                </a:solidFill>
                <a:latin typeface="Arial"/>
              </a:rPr>
              <a:t>Pieredze ar Norvēģijas investor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774720" y="765000"/>
            <a:ext cx="4178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a50021"/>
                </a:solidFill>
                <a:latin typeface="Arial"/>
              </a:rPr>
              <a:t>Nozaru interese, prasīb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"/>
          <p:cNvSpPr/>
          <p:nvPr/>
        </p:nvSpPr>
        <p:spPr>
          <a:xfrm>
            <a:off x="125280" y="1109520"/>
            <a:ext cx="6858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Metālapstrā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Konstrukciju izgatavošana no tērau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Metāla detaļu, elementu izgatavošana no nerūsējošā tērau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Prasība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Esoša Latvijas uzņēmuma partnera kompetenc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darbinieku sertifikāti / apmācības iespēja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tvērtība pret sadarbību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darba apstākļi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Cita Norvēģijas uzņēmuma tuvu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Ārpakalpojumu servisa centri Norvēģu klientu apkalpošan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Prasība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Skandināvu valodās runājošas persona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Valodas apmācības iespēja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Darba spēka skaita potenciāl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3" descr=""/>
          <p:cNvPicPr/>
          <p:nvPr/>
        </p:nvPicPr>
        <p:blipFill>
          <a:blip r:embed="rId1"/>
          <a:stretch/>
        </p:blipFill>
        <p:spPr>
          <a:xfrm>
            <a:off x="6516720" y="1125360"/>
            <a:ext cx="2433600" cy="16336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"/>
          <p:cNvPicPr/>
          <p:nvPr/>
        </p:nvPicPr>
        <p:blipFill>
          <a:blip r:embed="rId2"/>
          <a:stretch/>
        </p:blipFill>
        <p:spPr>
          <a:xfrm>
            <a:off x="6600960" y="4191120"/>
            <a:ext cx="2349360" cy="120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4"/>
          <p:cNvSpPr/>
          <p:nvPr/>
        </p:nvSpPr>
        <p:spPr>
          <a:xfrm>
            <a:off x="324000" y="189000"/>
            <a:ext cx="8742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a50021"/>
                </a:solidFill>
                <a:latin typeface="Arial"/>
              </a:rPr>
              <a:t>Investīciju piesaistes pasāku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774720" y="765000"/>
            <a:ext cx="4178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a50021"/>
                </a:solidFill>
                <a:latin typeface="Arial"/>
              </a:rPr>
              <a:t>1. Skaidrs piedāvāj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2"/>
          <p:cNvSpPr/>
          <p:nvPr/>
        </p:nvSpPr>
        <p:spPr>
          <a:xfrm>
            <a:off x="152280" y="1216080"/>
            <a:ext cx="861084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Mājas dar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Nozīmēta </a:t>
            </a:r>
            <a:r>
              <a:rPr b="1" lang="lv-LV" sz="1600" spc="-1" strike="noStrike">
                <a:solidFill>
                  <a:srgbClr val="000000"/>
                </a:solidFill>
                <a:latin typeface="Arial"/>
              </a:rPr>
              <a:t>konkrēta persona </a:t>
            </a: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darbam ar investīcijām (ekstraverta personība, brīvi pārvalda svešvalodas, modernos komunikācijas līdzekļ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Uzņēmējdarbības </a:t>
            </a:r>
            <a:r>
              <a:rPr b="1" lang="lv-LV" sz="1600" spc="-1" strike="noStrike">
                <a:solidFill>
                  <a:srgbClr val="000000"/>
                </a:solidFill>
                <a:latin typeface="Arial"/>
              </a:rPr>
              <a:t>nozaru apkopojums </a:t>
            </a: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(nozare, uzņēmums, esošas iekārtas, tehnoloģijas, zināšan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Cieša </a:t>
            </a:r>
            <a:r>
              <a:rPr b="1" lang="lv-LV" sz="1600" spc="-1" strike="noStrike">
                <a:solidFill>
                  <a:srgbClr val="000000"/>
                </a:solidFill>
                <a:latin typeface="Arial"/>
              </a:rPr>
              <a:t>sadarbība</a:t>
            </a: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 ar esošajiem </a:t>
            </a:r>
            <a:r>
              <a:rPr b="1" lang="lv-LV" sz="1600" spc="-1" strike="noStrike">
                <a:solidFill>
                  <a:srgbClr val="000000"/>
                </a:solidFill>
                <a:latin typeface="Arial"/>
              </a:rPr>
              <a:t>ārvalstu investoriem </a:t>
            </a: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(iekļaušana marketinga aktivitātē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Pieejamās brīvās ražošanas </a:t>
            </a:r>
            <a:r>
              <a:rPr b="1" lang="lv-LV" sz="1600" spc="-1" strike="noStrike">
                <a:solidFill>
                  <a:srgbClr val="000000"/>
                </a:solidFill>
                <a:latin typeface="Arial"/>
              </a:rPr>
              <a:t>telpas, teritorijas, infrastruktū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Arial"/>
              </a:rPr>
              <a:t>Mācību iestāžu</a:t>
            </a: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, apmācības centru apkopojums (programmas, student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Galveno </a:t>
            </a:r>
            <a:r>
              <a:rPr b="1" lang="lv-LV" sz="1600" spc="-1" strike="noStrike">
                <a:solidFill>
                  <a:srgbClr val="000000"/>
                </a:solidFill>
                <a:latin typeface="Arial"/>
              </a:rPr>
              <a:t>priekšrocību nodefinēšana </a:t>
            </a: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( nozares, izmaksas, atbalsts biznesam u.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Informācijas publiskošana – bukleti, web lapa svešvalodās, Facebook, LinkedIn u.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Komunikācijas vadlīnijas ar iesaistītajām pusēm vizīšu laik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Vizīšu standarta programmas izstrāde dažādām nozarē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6477120" y="1447920"/>
            <a:ext cx="2436840" cy="260352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4"/>
          <p:cNvSpPr/>
          <p:nvPr/>
        </p:nvSpPr>
        <p:spPr>
          <a:xfrm>
            <a:off x="324000" y="189000"/>
            <a:ext cx="8742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a50021"/>
                </a:solidFill>
                <a:latin typeface="Arial"/>
              </a:rPr>
              <a:t>Investīciju piesaistes pasākumi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774720" y="765000"/>
            <a:ext cx="4178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a50021"/>
                </a:solidFill>
                <a:latin typeface="Arial"/>
              </a:rPr>
              <a:t>2. Rīcības plā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2"/>
          <p:cNvSpPr/>
          <p:nvPr/>
        </p:nvSpPr>
        <p:spPr>
          <a:xfrm>
            <a:off x="135000" y="1216080"/>
            <a:ext cx="8610480" cy="62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Rīcības plāna izstrā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Jābūt ietverta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Kādu nozaru investīcijām tiks likts uzsvar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Uz kuru reģionu valsti tiks likts uzsvar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Kādas metodes konkrēti darbojas sadarbībā ar izvēlēto reģion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Iesaistītās personas, uzņēmumi iestād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Rīcības plāna realizēš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Rīcības kalendārs balstoties uz pieejamajiem resursie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Kontaktu birž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Aktivitāšu realizēšana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Atgriezeniskās saites analī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Uzlabošana darba gait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"/>
          <p:cNvSpPr/>
          <p:nvPr/>
        </p:nvSpPr>
        <p:spPr>
          <a:xfrm>
            <a:off x="324000" y="189000"/>
            <a:ext cx="8742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a50021"/>
                </a:solidFill>
                <a:latin typeface="Arial"/>
              </a:rPr>
              <a:t>Investīciju piesaistes pasākumi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838080" y="676440"/>
            <a:ext cx="7010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a50021"/>
                </a:solidFill>
                <a:latin typeface="Arial"/>
              </a:rPr>
              <a:t>3. Regulārs darbs ar esošajiem investori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2"/>
          <p:cNvSpPr/>
          <p:nvPr/>
        </p:nvSpPr>
        <p:spPr>
          <a:xfrm>
            <a:off x="152280" y="1523880"/>
            <a:ext cx="861084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Sanāksmes uzņēmumu sadarbības veicināšanai, info apmaiņ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Uzņēmumu apmeklēju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Uzņēmumu jaunumu marketēša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Pateicības raksti, gada balvas ut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Pieredzes apmaiņas, kontaktu veidošanas braucie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3" descr="©Fjord Norway /Per Eide"/>
          <p:cNvPicPr/>
          <p:nvPr/>
        </p:nvPicPr>
        <p:blipFill>
          <a:blip r:embed="rId1"/>
          <a:stretch/>
        </p:blipFill>
        <p:spPr>
          <a:xfrm>
            <a:off x="0" y="552600"/>
            <a:ext cx="9144000" cy="424800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4"/>
          <p:cNvSpPr/>
          <p:nvPr/>
        </p:nvSpPr>
        <p:spPr>
          <a:xfrm>
            <a:off x="324000" y="189000"/>
            <a:ext cx="8742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324000" y="4962600"/>
            <a:ext cx="4171680" cy="11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</a:rPr>
              <a:t>Gatis Gin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</a:rPr>
              <a:t>LIAA pārstāvniecības Norvēģijā vadītāj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</a:rPr>
              <a:t>Birojs: Latvijas vēstniecība Norvēģij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</a:rPr>
              <a:t>Bygdoy alle 76, Os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5257800" y="4967280"/>
            <a:ext cx="316872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</a:rPr>
              <a:t>Tel. +47 22 54 22 8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</a:rPr>
              <a:t>Mob. +47 47 288 0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</a:rPr>
              <a:t>E-mail: gatis.ginters@liaa.gov.l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ina</dc:creator>
  <dc:description/>
  <dc:language>en-US</dc:language>
  <cp:lastModifiedBy>Alise Vecozola</cp:lastModifiedBy>
  <cp:lastPrinted>2014-04-10T05:31:58Z</cp:lastPrinted>
  <dcterms:modified xsi:type="dcterms:W3CDTF">2014-04-10T05:41:50Z</dcterms:modified>
  <cp:revision>38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